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94C5-4965-4E10-9988-981E9D61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F92-73FD-40A3-980B-3F986E08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CCE7-1B7E-4538-887D-2B42ED60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A65-6DBF-486F-B2A1-C86043CA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AF0-68C0-459A-B960-0DA09EDE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F61-9E0A-4A30-BA5E-502EE8EA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A79-6B4F-4EA1-BFD0-9F70AC9D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0E4-426A-4DFE-9BC9-5BFBC8FC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85D-CAE0-42CF-9EC0-9DD40DE4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465-FC33-4C80-A4D7-0B85AC17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B5FA-B5C5-4131-9EBD-F566162C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187F-E717-432A-931A-DA0D57EE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46D35-D6A6-4622-BD31-9B33FC6DAA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5T16:11:19Z</dcterms:created>
  <dc:creator>tester </dc:creator>
  <dc:description/>
  <dc:language>en-US</dc:language>
  <cp:lastModifiedBy/>
  <cp:revision>0</cp:revision>
  <dc:subject/>
  <dc:title/>
</cp:coreProperties>
</file>