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The%20Microsoft%20Sound.wav" ContentType="audio/x-wav"/>
  <Override PartName="/ppt/media/image2.png" ContentType="image/png"/>
  <Override PartName="/ppt/media/image3.png" ContentType="image/png"/>
  <Override PartName="/ppt/media/clap.wav" ContentType="audio/x-wav"/>
  <Override PartName="/ppt/media/driveby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LOGOFF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Custom Show 1" id="0">
      <p:sldLst>
        <p:sld r:id="rId3"/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DA35-D50C-45D9-951F-484EADD2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8ECF-BCFE-42AA-8528-435560EA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A6BD-7213-49EB-87D3-C5D6DEA6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5A32-C39C-45D5-ADA0-1041D292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A8D7-8EC3-4AD3-A6C3-F335FA3C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EBBD-E060-43D0-B2F2-63F4717B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6ACC-A073-405E-A273-5D11F385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723E-0EBE-4CE4-B7C7-A0D80D74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67D1-FB57-4F1F-AE30-75C41F93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C1C7-0D48-40CE-AF7E-CBA2958B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7132-A798-4EA1-8E7B-B6301676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08A4-6C3B-4935-A23C-B070C4FB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31C9-2490-4F26-81C5-1B2A1A41F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%20Microsoft%20Sou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OGOFF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" descr=""/>
          <p:cNvPicPr/>
          <p:nvPr/>
        </p:nvPicPr>
        <p:blipFill>
          <a:blip r:embed="rId1"/>
          <a:stretch/>
        </p:blipFill>
        <p:spPr>
          <a:xfrm>
            <a:off x="880920" y="704880"/>
            <a:ext cx="7380360" cy="54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The%20Microsoft%20Sou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driveb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carbrak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clap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" descr=""/>
          <p:cNvPicPr/>
          <p:nvPr/>
        </p:nvPicPr>
        <p:blipFill>
          <a:blip r:embed="rId1"/>
          <a:stretch/>
        </p:blipFill>
        <p:spPr>
          <a:xfrm>
            <a:off x="507960" y="376200"/>
            <a:ext cx="8126280" cy="61038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LOGOFF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" descr=""/>
          <p:cNvPicPr/>
          <p:nvPr/>
        </p:nvPicPr>
        <p:blipFill>
          <a:blip r:embed="rId1"/>
          <a:stretch/>
        </p:blipFill>
        <p:spPr>
          <a:xfrm>
            <a:off x="142920" y="160200"/>
            <a:ext cx="8858160" cy="6537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3:56:44Z</dcterms:created>
  <dc:creator>DirtySlesk</dc:creator>
  <dc:description/>
  <dc:language>en-US</dc:language>
  <cp:lastModifiedBy>DirtySlesk</cp:lastModifiedBy>
  <dcterms:modified xsi:type="dcterms:W3CDTF">2000-10-04T04:47:42Z</dcterms:modified>
  <cp:revision>2</cp:revision>
  <dc:subject/>
  <dc:title> </dc:title>
</cp:coreProperties>
</file>