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6.jpeg" ContentType="image/jpeg"/>
  <Override PartName="/ppt/media/image8.png" ContentType="image/png"/>
  <Override PartName="/ppt/media/image5.png" ContentType="image/png"/>
  <Override PartName="/ppt/media/image15.wmf" ContentType="image/x-wmf"/>
  <Override PartName="/ppt/media/image4.gif" ContentType="image/gif"/>
  <Override PartName="/ppt/media/image7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F6DF-50B4-48B1-8F6F-3EE61E6A8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EB62-9712-40E0-9F09-8F843E1B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D755-032F-4070-B338-4DB21C256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671-31B5-4EB3-A13E-F43EBA36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FC89-D424-491C-9100-3185E91C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EEC5-3D0C-457A-B366-7DA3F3EB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47DFA-0AE9-464F-A20C-FDAB0F7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8774A-5A56-4EC7-95D1-8E4D0844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C91AC-4F31-4971-963C-6DFB12FA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9AF2-A2C1-4F1A-8D97-1F5E134B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0F54-5FB8-4DE8-BE21-35244E03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4E6-35CC-4C0F-BF60-9A2A6D01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EED2-3074-4911-9709-6043FED6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B375-E021-4E26-A3A8-A6E8668D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3772-6FB5-413E-9A24-43E5F43A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0685-9297-4A25-9BAC-E78B20FB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6608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9372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6608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9372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818F-C942-4B95-ADCD-E6B0A925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3FF0-50E2-4352-A61E-50976746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CC13-39EE-4EC8-8C7E-D4AF825A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A11-F472-4A60-9EE4-4857AE54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130320"/>
            <a:ext cx="7772400" cy="97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62A3-D426-402F-8811-5AD12CE45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DA4B-2B40-4992-A83B-E7FA2E22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82076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F1E3-465B-41D7-A96E-BB760F3F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076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9BD-51D1-41C0-99D2-5B8C1A43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artikos.com/chile/index.htm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3032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0BE1-5575-4FDE-9E33-94369110DA00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" name="home_0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34" name="commerce_one" descr=""/>
          <p:cNvPicPr/>
          <p:nvPr/>
        </p:nvPicPr>
        <p:blipFill>
          <a:blip r:embed="rId5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2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1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5C1C-F615-452F-BB5E-F50A75CAB907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artikos.com/chile/index.htm" TargetMode="External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5.pn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artikos.com/chile/index.ht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rtikos.com/chile/index.htm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cc00"/>
                </a:solidFill>
                <a:latin typeface="Arial"/>
              </a:rPr>
              <a:t>Desarrollo del negocio electrónic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600200" y="419076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Hernán Herrera Gomi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Gerente Gener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rtikos Chile S.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www.artikos.c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2873520"/>
            <a:ext cx="9144000" cy="1112760"/>
            <a:chOff x="0" y="2873520"/>
            <a:chExt cx="9144000" cy="1112760"/>
          </a:xfrm>
        </p:grpSpPr>
        <p:sp>
          <p:nvSpPr>
            <p:cNvPr id="146" name=""/>
            <p:cNvSpPr/>
            <p:nvPr/>
          </p:nvSpPr>
          <p:spPr>
            <a:xfrm>
              <a:off x="0" y="2873520"/>
              <a:ext cx="9144000" cy="83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0" y="2873520"/>
              <a:ext cx="3825720" cy="11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 u="sng">
                  <a:solidFill>
                    <a:srgbClr val="f98d4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s-ES" sz="67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s-E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48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743200" cy="861840"/>
          </a:xfrm>
          <a:prstGeom prst="rect">
            <a:avLst/>
          </a:prstGeom>
          <a:ln w="0">
            <a:noFill/>
          </a:ln>
        </p:spPr>
      </p:pic>
      <p:pic>
        <p:nvPicPr>
          <p:cNvPr id="149" name="commerce_one" descr=""/>
          <p:cNvPicPr/>
          <p:nvPr/>
        </p:nvPicPr>
        <p:blipFill>
          <a:blip r:embed="rId4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879720" y="1638360"/>
            <a:ext cx="1386000" cy="3581280"/>
            <a:chOff x="3879720" y="1638360"/>
            <a:chExt cx="1386000" cy="3581280"/>
          </a:xfrm>
        </p:grpSpPr>
        <p:sp>
          <p:nvSpPr>
            <p:cNvPr id="151" name=""/>
            <p:cNvSpPr/>
            <p:nvPr/>
          </p:nvSpPr>
          <p:spPr>
            <a:xfrm>
              <a:off x="3879720" y="1638360"/>
              <a:ext cx="1384200" cy="358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9720" y="1638360"/>
              <a:ext cx="1386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53" name="home_01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"/>
          <p:cNvGraphicFramePr/>
          <p:nvPr/>
        </p:nvGraphicFramePr>
        <p:xfrm>
          <a:off x="1752480" y="838080"/>
          <a:ext cx="979560" cy="49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2480" y="838080"/>
                    <a:ext cx="97956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Logo%20Somos%20Diferentes" descr=""/>
          <p:cNvPicPr/>
          <p:nvPr/>
        </p:nvPicPr>
        <p:blipFill>
          <a:blip r:embed="rId9"/>
          <a:stretch/>
        </p:blipFill>
        <p:spPr>
          <a:xfrm>
            <a:off x="0" y="838080"/>
            <a:ext cx="99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3966840" y="304920"/>
            <a:ext cx="48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FINICIÓN Y ANTECEDENT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DEL NEGOCIO B2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07640" y="1219320"/>
            <a:ext cx="56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66"/>
                </a:solidFill>
                <a:latin typeface="Arial"/>
              </a:rPr>
              <a:t>Comercio Electrónico Business-to-Business (B2B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6680" y="1523880"/>
            <a:ext cx="8221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ransacciones de compra-venta en Internet entre Compradores y Proveedor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rincipales beneficios s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Reducción de Co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Ventaja Competitiva en el emergente Mercado Vir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umentar el Conocimiento de los Clie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Acceso a nuevos merca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66ffff"/>
                </a:solidFill>
                <a:latin typeface="Arial"/>
              </a:rPr>
              <a:t>Eficiencia en los Procesos de Negoc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Rel%20Comp-Vend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7010280" cy="2590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l%20Comp-Vend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047760" cy="2328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320" name=""/>
          <p:cNvSpPr/>
          <p:nvPr/>
        </p:nvSpPr>
        <p:spPr>
          <a:xfrm>
            <a:off x="4800600" y="2286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Arial"/>
              </a:rPr>
              <a:t>FUENTES DE GENERACIÓN DE INGRESOS DE UN MARKETPLACE B2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6095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PRA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5486400"/>
            <a:ext cx="9907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1600200"/>
            <a:ext cx="2209680" cy="60948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Derechos de Acce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ROVEED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29200" y="2362320"/>
            <a:ext cx="9144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ones  (% Fluj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SUBAST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72200" y="365760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90920" y="3733920"/>
            <a:ext cx="380880" cy="7617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05720" y="3809880"/>
            <a:ext cx="220968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TRANSAC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1680" y="6095880"/>
            <a:ext cx="2210040" cy="60984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Comisión Fija (CLICK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98d43"/>
                </a:solidFill>
                <a:latin typeface="Arial"/>
              </a:rPr>
              <a:t>PUBLIC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2536800">
            <a:off x="6248520" y="5334120"/>
            <a:ext cx="380880" cy="8380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781680" y="167652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0512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3800" y="32004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72200" y="6172200"/>
            <a:ext cx="457200" cy="4572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Arquitectura MarketPl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1419120"/>
            <a:ext cx="6553080" cy="1627560"/>
          </a:xfrm>
          <a:prstGeom prst="rect">
            <a:avLst/>
          </a:prstGeom>
          <a:solidFill>
            <a:srgbClr val="2663a0"/>
          </a:solidFill>
          <a:ln w="0">
            <a:noFill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ogíst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ag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idad y Certifica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Factor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ubastas y Licitacion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Leasing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Procurement Car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Seguros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Administración de Contenidos y Catálog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Comercio Exterior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400" spc="-1" strike="noStrike">
                <a:solidFill>
                  <a:srgbClr val="ffffff"/>
                </a:solidFill>
                <a:latin typeface="Times New Roman"/>
              </a:rPr>
              <a:t>Otros...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246400" y="3127320"/>
            <a:ext cx="6669000" cy="2892240"/>
            <a:chOff x="2246400" y="3127320"/>
            <a:chExt cx="6669000" cy="2892240"/>
          </a:xfrm>
        </p:grpSpPr>
        <p:sp>
          <p:nvSpPr>
            <p:cNvPr id="339" name=""/>
            <p:cNvSpPr/>
            <p:nvPr/>
          </p:nvSpPr>
          <p:spPr>
            <a:xfrm rot="16200000">
              <a:off x="1133640" y="4588920"/>
              <a:ext cx="25509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alce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445760" y="458640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uteo / Mapp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75212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lanific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20664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Programación de Actividad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237600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Optim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16200000">
              <a:off x="2690280" y="45896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Orden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6200000">
              <a:off x="3004560" y="4587840"/>
              <a:ext cx="25527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umpli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246400" y="3127320"/>
              <a:ext cx="2187360" cy="307080"/>
            </a:xfrm>
            <a:prstGeom prst="rect">
              <a:avLst/>
            </a:prstGeom>
            <a:solidFill>
              <a:srgbClr val="9ce15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mer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55828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Definición de Proces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rot="16200000">
              <a:off x="58924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Workflo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16200000">
              <a:off x="6208200" y="4588200"/>
              <a:ext cx="2549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Almacenamient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16200000">
              <a:off x="651636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Document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16200000">
              <a:off x="68306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Administración de Proyec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16200000">
              <a:off x="714024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oporte a Cli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7478280" y="4589640"/>
              <a:ext cx="255276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ervicios de Tercer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6880" y="3127320"/>
              <a:ext cx="2198520" cy="3070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labo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6200000">
              <a:off x="367308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vers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rot="16200000">
              <a:off x="42969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Sincroniz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60656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Merchandis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16200000">
              <a:off x="492084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Búsqueda Paramétric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5231880" y="45878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Acces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16200000">
              <a:off x="3362400" y="4588920"/>
              <a:ext cx="254808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Fuen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5680" y="3132000"/>
              <a:ext cx="217800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Conteni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3984120" y="4589640"/>
              <a:ext cx="2552760" cy="307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44"/>
                  </a:solidFill>
                  <a:latin typeface="Times New Roman"/>
                </a:rPr>
                <a:t>Reglas de Configuració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966240" y="1432080"/>
            <a:ext cx="124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Agreg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9640" y="2971800"/>
            <a:ext cx="15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Básic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Market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38280" y="135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2. Roles en un </a:t>
            </a:r>
            <a:br>
              <a:rPr sz="4000"/>
            </a:b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Marketplace B2B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Vend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grupadores de compr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dor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dministrador del Marketpl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sultores de Implan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cone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veedores de servicios complementarios: Logística, Finanzas, informació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dores de tráf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905120" y="363960"/>
            <a:ext cx="7162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3. Factores Críticos 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de Exito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dopción de proveedores y compr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masa crítica de empresas y una liquidez del merc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Respaldo de socios de negocios con presencia en la economía re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Desarrollo de servicios de valor agreg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Velocid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"/>
          <p:cNvGrpSpPr/>
          <p:nvPr/>
        </p:nvGrpSpPr>
        <p:grpSpPr>
          <a:xfrm>
            <a:off x="2033640" y="2133720"/>
            <a:ext cx="2450880" cy="2819160"/>
            <a:chOff x="2033640" y="2133720"/>
            <a:chExt cx="2450880" cy="2819160"/>
          </a:xfrm>
        </p:grpSpPr>
        <p:sp>
          <p:nvSpPr>
            <p:cNvPr id="370" name=""/>
            <p:cNvSpPr/>
            <p:nvPr/>
          </p:nvSpPr>
          <p:spPr>
            <a:xfrm>
              <a:off x="2033640" y="213372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50200" y="2239920"/>
              <a:ext cx="2418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Automatizació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roceso de Compra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33640" y="30862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97080" y="3192480"/>
              <a:ext cx="212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liminar Comp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revis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33640" y="4038480"/>
              <a:ext cx="245088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15240" y="4145040"/>
              <a:ext cx="1688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conomías 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scal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516560" y="2133720"/>
            <a:ext cx="2539800" cy="2819160"/>
            <a:chOff x="4516560" y="2133720"/>
            <a:chExt cx="2539800" cy="2819160"/>
          </a:xfrm>
        </p:grpSpPr>
        <p:sp>
          <p:nvSpPr>
            <p:cNvPr id="377" name=""/>
            <p:cNvSpPr/>
            <p:nvPr/>
          </p:nvSpPr>
          <p:spPr>
            <a:xfrm>
              <a:off x="4516560" y="213372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4160" y="2239920"/>
              <a:ext cx="152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Redu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osto Vent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6560" y="30862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73800" y="3192480"/>
              <a:ext cx="24238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ncrementa Ingres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por Clien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16560" y="4038480"/>
              <a:ext cx="2539800" cy="914400"/>
            </a:xfrm>
            <a:prstGeom prst="rect">
              <a:avLst/>
            </a:prstGeom>
            <a:solidFill>
              <a:srgbClr val="2663a0"/>
            </a:soli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44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6360" y="4145040"/>
              <a:ext cx="1056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Nuev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Clien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886200" y="304920"/>
            <a:ext cx="380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1" lang="es-ES_tradnl" sz="4400" spc="-1" strike="noStrike">
                <a:solidFill>
                  <a:srgbClr val="ff9933"/>
                </a:solidFill>
                <a:latin typeface="Times New Roman"/>
              </a:rPr>
              <a:t>4. Benefici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725000" y="1736640"/>
            <a:ext cx="21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PROVEE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57400" y="5029200"/>
            <a:ext cx="5029200" cy="1066680"/>
          </a:xfrm>
          <a:prstGeom prst="flowChartMerge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74600" y="5111640"/>
            <a:ext cx="141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44"/>
                </a:solidFill>
                <a:latin typeface="Times New Roman"/>
              </a:rPr>
              <a:t>+ RO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280" y="44136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66"/>
                </a:solidFill>
                <a:latin typeface="Arial"/>
              </a:rPr>
              <a:t>B</a:t>
            </a:r>
            <a:br>
              <a:rPr sz="2800"/>
            </a:br>
            <a:r>
              <a:rPr b="0" i="1" lang="es-E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000066"/>
                </a:solidFill>
                <a:latin typeface="Arial"/>
              </a:rPr>
              <a:t>+ RO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168280" y="1736640"/>
            <a:ext cx="220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98d43"/>
                </a:solidFill>
                <a:latin typeface="Times New Roman"/>
              </a:rPr>
              <a:t>COMP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Beneficios para el Comprador</a:t>
            </a:r>
            <a:br>
              <a:rPr sz="2800"/>
            </a:br>
            <a:r>
              <a:rPr b="0" i="1" lang="es-E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s-ES" sz="2800" spc="-1" strike="noStrike">
                <a:solidFill>
                  <a:srgbClr val="f98d43"/>
                </a:solidFill>
                <a:latin typeface="Arial"/>
              </a:rPr>
              <a:t>Potenciales </a:t>
            </a:r>
            <a:r>
              <a:rPr b="1" i="1" lang="es-ES_tradnl" sz="2800" spc="-1" strike="noStrike">
                <a:solidFill>
                  <a:srgbClr val="f98d43"/>
                </a:solidFill>
                <a:latin typeface="Arial"/>
              </a:rPr>
              <a:t>Ahorros $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923760" y="1604880"/>
          <a:ext cx="7458120" cy="41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3760" y="1604880"/>
                    <a:ext cx="7458120" cy="411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44"/>
                    </a:outerShdw>
                  </a:effectLst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280" y="-2520"/>
            <a:ext cx="777240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5. Caso:</a:t>
            </a:r>
            <a:br>
              <a:rPr sz="4000"/>
            </a:br>
            <a:r>
              <a:rPr b="0" lang="es-MX" sz="4000" spc="-1" strike="noStrike">
                <a:solidFill>
                  <a:srgbClr val="ffcc00"/>
                </a:solidFill>
                <a:latin typeface="Arial Black"/>
              </a:rPr>
              <a:t>El mercado vertical de la Construcción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La Cámara Chilena de la Construcción, es una entidad gremial que agrupa a las principales empresas del sector en Chi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El sector implica un volumen de negocios equivalente a casi el 10% del PG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ChC Marketplace es la empresa generada para operar un portal B2B para transar bienes propios de la industr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 realizó un proceso de selección de soluciones tecnológicas y de nego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05740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00"/>
                </a:solidFill>
                <a:latin typeface="Arial Black"/>
              </a:rPr>
              <a:t>6. Visión de Fut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838080"/>
            <a:ext cx="7467480" cy="762120"/>
          </a:xfrm>
          <a:prstGeom prst="rightArrow">
            <a:avLst>
              <a:gd name="adj1" fmla="val 50000"/>
              <a:gd name="adj2" fmla="val 24495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343400" y="1828800"/>
            <a:ext cx="0" cy="50292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1828800"/>
            <a:ext cx="79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Presente  </a:t>
            </a:r>
            <a:r>
              <a:rPr b="0" lang="es-MX" sz="2000" spc="-1" strike="noStrike">
                <a:solidFill>
                  <a:srgbClr val="ffcc00"/>
                </a:solidFill>
                <a:latin typeface="Arial Black"/>
              </a:rPr>
              <a:t>                                     </a:t>
            </a:r>
            <a:r>
              <a:rPr b="0" lang="es-MX" sz="2000" spc="-1" strike="noStrike">
                <a:solidFill>
                  <a:srgbClr val="ffffff"/>
                </a:solidFill>
                <a:latin typeface="Arial Black"/>
              </a:rPr>
              <a:t>Evol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228600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specializados en partes de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esencia relevante de empresas.com y Telecomunicadoras posicionadas como  Mercados Electróni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basados en una Plataforma Tecnológica  ( CommerceOne, Ariba y Oracle líderes 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es también socio en el nego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l intercambio de transacciones en el mer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de transacciones es fundamentalmente lo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2362320"/>
            <a:ext cx="406404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 Electrónicos cubren toda la cadena de val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osicionamiento de los Bancos (  basado en fortalezas como cartera de clientes, trust, servicios financieros )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Mercados Electrónicos pueden operar con Múltiples plataformas tecnológicas interconectadas entre ellas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Proveedor de la tecnología vuelve a ser solo eso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Fuentes de ingreso provienen principalmente de los servicios financieros y de valor agregad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Aft>
                <a:spcPts val="788"/>
              </a:spcAft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cc00"/>
                </a:solidFill>
                <a:latin typeface="Arial"/>
              </a:rPr>
              <a:t>Intercambio global de transacciones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1415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cc00"/>
                </a:solidFill>
                <a:uFillTx/>
                <a:latin typeface="Arial"/>
              </a:rPr>
              <a:t>Agend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1. Conceptos del negocio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2. Actores y roles en 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3. Factores Críticos de Éxi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4. Benef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5. Caso de Negocio: Marketplace de la Constr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6. Tendencias y evolución del B2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commerce_one" descr=""/>
          <p:cNvPicPr/>
          <p:nvPr/>
        </p:nvPicPr>
        <p:blipFill>
          <a:blip r:embed="rId1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  <p:pic>
        <p:nvPicPr>
          <p:cNvPr id="160" name="home_0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599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 Black"/>
              </a:rPr>
              <a:t>1. Conceptos del Negocio B2B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2" name="home_0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324480"/>
            <a:ext cx="1859040" cy="533520"/>
          </a:xfrm>
          <a:prstGeom prst="rect">
            <a:avLst/>
          </a:prstGeom>
          <a:ln w="0">
            <a:noFill/>
          </a:ln>
        </p:spPr>
      </p:pic>
      <p:pic>
        <p:nvPicPr>
          <p:cNvPr id="163" name="commerce_one" descr=""/>
          <p:cNvPicPr/>
          <p:nvPr/>
        </p:nvPicPr>
        <p:blipFill>
          <a:blip r:embed="rId3"/>
          <a:stretch/>
        </p:blipFill>
        <p:spPr>
          <a:xfrm>
            <a:off x="7772400" y="6378480"/>
            <a:ext cx="13716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5410080" y="5029200"/>
            <a:ext cx="3581640" cy="83808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648320"/>
            <a:ext cx="3581640" cy="304560"/>
          </a:xfrm>
          <a:prstGeom prst="rect">
            <a:avLst/>
          </a:prstGeom>
          <a:solidFill>
            <a:srgbClr val="cc33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2160" y="1143000"/>
            <a:ext cx="4826160" cy="33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1433520"/>
            <a:ext cx="3048120" cy="3138480"/>
          </a:xfrm>
          <a:custGeom>
            <a:avLst/>
            <a:gdLst/>
            <a:ahLst/>
            <a:rect l="l" t="t" r="r" b="b"/>
            <a:pathLst>
              <a:path w="2608" h="1977">
                <a:moveTo>
                  <a:pt x="0" y="1977"/>
                </a:moveTo>
                <a:lnTo>
                  <a:pt x="0" y="1977"/>
                </a:lnTo>
                <a:lnTo>
                  <a:pt x="436" y="1937"/>
                </a:lnTo>
                <a:lnTo>
                  <a:pt x="869" y="1859"/>
                </a:lnTo>
                <a:lnTo>
                  <a:pt x="1305" y="1541"/>
                </a:lnTo>
                <a:lnTo>
                  <a:pt x="1738" y="1129"/>
                </a:lnTo>
                <a:lnTo>
                  <a:pt x="2171" y="497"/>
                </a:lnTo>
                <a:lnTo>
                  <a:pt x="2608" y="0"/>
                </a:lnTo>
                <a:lnTo>
                  <a:pt x="2608" y="105"/>
                </a:lnTo>
                <a:lnTo>
                  <a:pt x="2171" y="571"/>
                </a:lnTo>
                <a:lnTo>
                  <a:pt x="1738" y="1173"/>
                </a:lnTo>
                <a:lnTo>
                  <a:pt x="1305" y="1565"/>
                </a:lnTo>
                <a:lnTo>
                  <a:pt x="869" y="1869"/>
                </a:lnTo>
                <a:lnTo>
                  <a:pt x="436" y="1940"/>
                </a:lnTo>
                <a:lnTo>
                  <a:pt x="0" y="1977"/>
                </a:lnTo>
              </a:path>
            </a:pathLst>
          </a:custGeom>
          <a:gradFill rotWithShape="0">
            <a:gsLst>
              <a:gs pos="0">
                <a:srgbClr val="ff5050"/>
              </a:gs>
              <a:gs pos="100000">
                <a:srgbClr val="752424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5320" y="51213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B2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63560" y="5114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568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07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97920" y="5114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701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19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273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33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584560" y="51148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5050"/>
                </a:solidFill>
                <a:latin typeface="Arial"/>
              </a:rPr>
              <a:t>4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5e46"/>
              </a:gs>
            </a:gsLst>
            <a:lin ang="5400000"/>
          </a:gradFill>
          <a:ln w="936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43600" y="1600200"/>
            <a:ext cx="3048120" cy="2971800"/>
          </a:xfrm>
          <a:custGeom>
            <a:avLst/>
            <a:gdLst/>
            <a:ahLst/>
            <a:rect l="l" t="t" r="r" b="b"/>
            <a:pathLst>
              <a:path w="2608" h="1872">
                <a:moveTo>
                  <a:pt x="0" y="1872"/>
                </a:moveTo>
                <a:lnTo>
                  <a:pt x="0" y="1872"/>
                </a:lnTo>
                <a:lnTo>
                  <a:pt x="436" y="1835"/>
                </a:lnTo>
                <a:lnTo>
                  <a:pt x="869" y="1764"/>
                </a:lnTo>
                <a:lnTo>
                  <a:pt x="1305" y="1460"/>
                </a:lnTo>
                <a:lnTo>
                  <a:pt x="1738" y="1068"/>
                </a:lnTo>
                <a:lnTo>
                  <a:pt x="2171" y="466"/>
                </a:lnTo>
                <a:lnTo>
                  <a:pt x="2608" y="0"/>
                </a:lnTo>
                <a:lnTo>
                  <a:pt x="2608" y="487"/>
                </a:lnTo>
                <a:lnTo>
                  <a:pt x="2171" y="862"/>
                </a:lnTo>
                <a:lnTo>
                  <a:pt x="1738" y="1274"/>
                </a:lnTo>
                <a:lnTo>
                  <a:pt x="1305" y="1568"/>
                </a:lnTo>
                <a:lnTo>
                  <a:pt x="869" y="1821"/>
                </a:lnTo>
                <a:lnTo>
                  <a:pt x="436" y="1855"/>
                </a:lnTo>
                <a:lnTo>
                  <a:pt x="0" y="1872"/>
                </a:lnTo>
              </a:path>
            </a:pathLst>
          </a:custGeom>
          <a:noFill/>
          <a:ln w="468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5680" y="53499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B2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63560" y="534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75680" y="5345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557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4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129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4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70160" y="53452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89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99704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1.7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62160" y="53452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339933"/>
                </a:solidFill>
                <a:latin typeface="Arial"/>
              </a:rPr>
              <a:t>2.1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373480"/>
            <a:ext cx="3048120" cy="2198520"/>
          </a:xfrm>
          <a:custGeom>
            <a:avLst/>
            <a:gdLst/>
            <a:ahLst/>
            <a:rect l="l" t="t" r="r" b="b"/>
            <a:pathLst>
              <a:path w="2608" h="1385">
                <a:moveTo>
                  <a:pt x="0" y="1385"/>
                </a:moveTo>
                <a:lnTo>
                  <a:pt x="0" y="1385"/>
                </a:lnTo>
                <a:lnTo>
                  <a:pt x="436" y="1368"/>
                </a:lnTo>
                <a:lnTo>
                  <a:pt x="869" y="1334"/>
                </a:lnTo>
                <a:lnTo>
                  <a:pt x="1305" y="1081"/>
                </a:lnTo>
                <a:lnTo>
                  <a:pt x="1738" y="787"/>
                </a:lnTo>
                <a:lnTo>
                  <a:pt x="2171" y="375"/>
                </a:lnTo>
                <a:lnTo>
                  <a:pt x="2608" y="0"/>
                </a:lnTo>
                <a:lnTo>
                  <a:pt x="2608" y="1385"/>
                </a:lnTo>
                <a:lnTo>
                  <a:pt x="2171" y="1385"/>
                </a:lnTo>
                <a:lnTo>
                  <a:pt x="1738" y="1385"/>
                </a:lnTo>
                <a:lnTo>
                  <a:pt x="1305" y="1385"/>
                </a:lnTo>
                <a:lnTo>
                  <a:pt x="869" y="1385"/>
                </a:lnTo>
                <a:lnTo>
                  <a:pt x="436" y="1385"/>
                </a:lnTo>
                <a:lnTo>
                  <a:pt x="0" y="1385"/>
                </a:lnTo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464675"/>
              </a:gs>
            </a:gsLst>
            <a:lin ang="5400000"/>
          </a:gradFill>
          <a:ln w="4680">
            <a:solidFill>
              <a:srgbClr val="00004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85320" y="5578560"/>
            <a:ext cx="30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B2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63560" y="5572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5680" y="5572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55760" y="557208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855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1.3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272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2.5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9704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4.3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462160" y="5572080"/>
            <a:ext cx="38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ffcc00"/>
                </a:solidFill>
                <a:latin typeface="Arial"/>
              </a:rPr>
              <a:t>5.9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4108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6012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23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1116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4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42800" y="47242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000066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2362320" y="838080"/>
            <a:ext cx="10211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9933"/>
                </a:solidFill>
                <a:latin typeface="Arial"/>
              </a:rPr>
              <a:t>La Revolución del E-Commerce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266688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(en US$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495680" cy="313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sp>
        <p:nvSpPr>
          <p:cNvPr id="207" name=""/>
          <p:cNvSpPr/>
          <p:nvPr/>
        </p:nvSpPr>
        <p:spPr>
          <a:xfrm>
            <a:off x="38088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20024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38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57600" y="4800240"/>
            <a:ext cx="106668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040" y="4151160"/>
            <a:ext cx="1219320" cy="3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2006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8 B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57600" y="1752480"/>
            <a:ext cx="1219320" cy="507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66"/>
                </a:solidFill>
                <a:latin typeface="Arial"/>
              </a:rPr>
              <a:t>$1.3 Trill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9120" y="1738440"/>
            <a:ext cx="260496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42% de las empresas tendrán aplicaciones de compra basadas en Internet para el año  20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743200" y="3648240"/>
            <a:ext cx="21337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00"/>
                </a:solidFill>
                <a:latin typeface="Arial"/>
              </a:rPr>
              <a:t>82% de las grandes compañías estarán haciendo B2B en el 2002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19240" y="4800240"/>
            <a:ext cx="1067040" cy="2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4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" y="5318280"/>
            <a:ext cx="36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33"/>
                </a:solidFill>
                <a:latin typeface="Arial"/>
              </a:rPr>
              <a:t>Proyecciones B2B en EE.U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86400" y="205740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66"/>
                </a:solidFill>
                <a:latin typeface="Arial"/>
              </a:rPr>
              <a:t>Fuente: Cámara Comercio Santi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571500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9933"/>
                </a:solidFill>
                <a:latin typeface="Arial"/>
              </a:rPr>
              <a:t>Fuente: Forrester In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Rel%20Comp-Vend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276720" cy="49654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143000" y="1523880"/>
            <a:ext cx="7696080" cy="39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Compra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Búsqueda de Vendedo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Mejor Pre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Disponibilidad del Producto/Servic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Realización de la Transa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Gestión de Compr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5840" indent="-285840">
              <a:lnSpc>
                <a:spcPct val="130000"/>
              </a:lnSpc>
              <a:buClr>
                <a:srgbClr val="ffcc00"/>
              </a:buClr>
              <a:buSzPct val="125000"/>
              <a:buFont typeface="Monotype Sorts" charset="2"/>
              <a:buChar char="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9933"/>
                </a:solidFill>
                <a:latin typeface="Arial"/>
              </a:rPr>
              <a:t>Administración de Catálog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Modelo de Negocios</a:t>
            </a:r>
            <a:br>
              <a:rPr sz="2800"/>
            </a:br>
            <a:r>
              <a:rPr b="0" i="1" lang="es-ES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es-ES_tradnl" sz="2800" spc="-1" strike="noStrike">
                <a:solidFill>
                  <a:srgbClr val="ffcc00"/>
                </a:solidFill>
                <a:latin typeface="Arial"/>
              </a:rPr>
              <a:t>Soluciones del B2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16880" y="6281640"/>
            <a:ext cx="6698880" cy="569160"/>
          </a:xfrm>
          <a:prstGeom prst="rect">
            <a:avLst/>
          </a:prstGeom>
          <a:solidFill>
            <a:srgbClr val="2663a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emplazar INVENTARIO por IN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3300"/>
                </a:solidFill>
                <a:latin typeface="Arial Black"/>
              </a:rPr>
              <a:t>¿Qué es un Marketplace B2B?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"/>
              </a:rPr>
              <a:t>Es un espacio virtual de encuentro entre múltiples compradores y vendedores, que pueden realizar operaciones bajo distintas modalidades en cuanto a condiciones comercial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973240" y="5181480"/>
            <a:ext cx="1698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Comp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93320" y="5181480"/>
            <a:ext cx="1600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66"/>
                </a:solidFill>
                <a:latin typeface="Arial Narrow"/>
              </a:rPr>
              <a:t>Provee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Suppliers" descr=""/>
          <p:cNvPicPr/>
          <p:nvPr/>
        </p:nvPicPr>
        <p:blipFill>
          <a:blip r:embed="rId1"/>
          <a:srcRect l="19606" t="28110" r="18801" b="30332"/>
          <a:stretch/>
        </p:blipFill>
        <p:spPr>
          <a:xfrm>
            <a:off x="3205080" y="2917800"/>
            <a:ext cx="874800" cy="709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624800" y="144792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29" name="Suppliers" descr=""/>
          <p:cNvPicPr/>
          <p:nvPr/>
        </p:nvPicPr>
        <p:blipFill>
          <a:blip r:embed="rId3"/>
          <a:srcRect l="19606" t="28110" r="18801" b="30332"/>
          <a:stretch/>
        </p:blipFill>
        <p:spPr>
          <a:xfrm>
            <a:off x="3205080" y="1474920"/>
            <a:ext cx="874800" cy="711000"/>
          </a:xfrm>
          <a:prstGeom prst="rect">
            <a:avLst/>
          </a:prstGeom>
          <a:ln w="0">
            <a:noFill/>
          </a:ln>
        </p:spPr>
      </p:pic>
      <p:pic>
        <p:nvPicPr>
          <p:cNvPr id="230" name="Suppliers" descr=""/>
          <p:cNvPicPr/>
          <p:nvPr/>
        </p:nvPicPr>
        <p:blipFill>
          <a:blip r:embed="rId4"/>
          <a:srcRect l="19606" t="28110" r="18801" b="30332"/>
          <a:stretch/>
        </p:blipFill>
        <p:spPr>
          <a:xfrm>
            <a:off x="3205080" y="4349880"/>
            <a:ext cx="874800" cy="763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624800" y="2889360"/>
            <a:ext cx="1112760" cy="765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624800" y="4348080"/>
            <a:ext cx="1112760" cy="765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44"/>
            </a:outerShdw>
          </a:effectLst>
        </p:spPr>
      </p:pic>
      <p:cxnSp>
        <p:nvCxnSpPr>
          <p:cNvPr id="233" name=""/>
          <p:cNvCxnSpPr>
            <a:stCxn id="229" idx="3"/>
            <a:endCxn id="228" idx="1"/>
          </p:cNvCxnSpPr>
          <p:nvPr/>
        </p:nvCxnSpPr>
        <p:spPr>
          <a:xfrm>
            <a:off x="4079520" y="1829880"/>
            <a:ext cx="3545640" cy="10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4" name=""/>
          <p:cNvCxnSpPr>
            <a:stCxn id="229" idx="3"/>
            <a:endCxn id="231" idx="1"/>
          </p:cNvCxnSpPr>
          <p:nvPr/>
        </p:nvCxnSpPr>
        <p:spPr>
          <a:xfrm>
            <a:off x="4079520" y="1830240"/>
            <a:ext cx="3545640" cy="144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5" name=""/>
          <p:cNvCxnSpPr>
            <a:stCxn id="229" idx="3"/>
            <a:endCxn id="232" idx="1"/>
          </p:cNvCxnSpPr>
          <p:nvPr/>
        </p:nvCxnSpPr>
        <p:spPr>
          <a:xfrm>
            <a:off x="4079520" y="1829880"/>
            <a:ext cx="3545640" cy="29008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6" name=""/>
          <p:cNvCxnSpPr>
            <a:stCxn id="227" idx="3"/>
            <a:endCxn id="228" idx="1"/>
          </p:cNvCxnSpPr>
          <p:nvPr/>
        </p:nvCxnSpPr>
        <p:spPr>
          <a:xfrm flipV="1">
            <a:off x="4079520" y="1829520"/>
            <a:ext cx="3545640" cy="14439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7" name=""/>
          <p:cNvCxnSpPr>
            <a:stCxn id="230" idx="3"/>
            <a:endCxn id="228" idx="1"/>
          </p:cNvCxnSpPr>
          <p:nvPr/>
        </p:nvCxnSpPr>
        <p:spPr>
          <a:xfrm flipV="1">
            <a:off x="4079520" y="1829520"/>
            <a:ext cx="3545640" cy="290268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8" name=""/>
          <p:cNvCxnSpPr>
            <a:stCxn id="227" idx="3"/>
            <a:endCxn id="231" idx="1"/>
          </p:cNvCxnSpPr>
          <p:nvPr/>
        </p:nvCxnSpPr>
        <p:spPr>
          <a:xfrm flipV="1">
            <a:off x="4079520" y="3270960"/>
            <a:ext cx="3545640" cy="252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39" name=""/>
          <p:cNvCxnSpPr>
            <a:stCxn id="227" idx="3"/>
            <a:endCxn id="232" idx="1"/>
          </p:cNvCxnSpPr>
          <p:nvPr/>
        </p:nvCxnSpPr>
        <p:spPr>
          <a:xfrm>
            <a:off x="4079520" y="3273480"/>
            <a:ext cx="3545640" cy="145800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0" name=""/>
          <p:cNvCxnSpPr>
            <a:stCxn id="230" idx="3"/>
            <a:endCxn id="232" idx="1"/>
          </p:cNvCxnSpPr>
          <p:nvPr/>
        </p:nvCxnSpPr>
        <p:spPr>
          <a:xfrm flipV="1">
            <a:off x="4079520" y="4730400"/>
            <a:ext cx="3545640" cy="21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cxnSp>
        <p:nvCxnSpPr>
          <p:cNvPr id="241" name=""/>
          <p:cNvCxnSpPr>
            <a:stCxn id="230" idx="3"/>
          </p:cNvCxnSpPr>
          <p:nvPr/>
        </p:nvCxnSpPr>
        <p:spPr>
          <a:xfrm flipV="1">
            <a:off x="4079520" y="3265200"/>
            <a:ext cx="3561480" cy="1467360"/>
          </a:xfrm>
          <a:prstGeom prst="straightConnector1">
            <a:avLst/>
          </a:prstGeom>
          <a:ln w="41400">
            <a:solidFill>
              <a:srgbClr val="252595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304920" y="1219320"/>
            <a:ext cx="2590560" cy="4786200"/>
          </a:xfrm>
          <a:prstGeom prst="rect">
            <a:avLst/>
          </a:prstGeom>
          <a:noFill/>
          <a:ln w="158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Múltiples formatos, poca efici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estánd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Hay que buscar en catálogos y otros medi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No aprovecha poder de compr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 algn="just">
              <a:lnSpc>
                <a:spcPct val="110000"/>
              </a:lnSpc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Times New Roman"/>
              </a:rPr>
              <a:t>Falta de información geren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OMERCI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E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LECTRONICO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 T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RADICION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27080" y="1031760"/>
            <a:ext cx="8915400" cy="1283040"/>
          </a:xfrm>
          <a:prstGeom prst="rect">
            <a:avLst/>
          </a:prstGeom>
          <a:solidFill>
            <a:srgbClr val="00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00"/>
                </a:solidFill>
                <a:latin typeface="Arial"/>
              </a:rPr>
              <a:t>El punto de acceso a la Comunidad Comercial donde las empresas puedan realizar transacciones de comercio electrónico B2B en un </a:t>
            </a:r>
            <a:r>
              <a:rPr b="0" lang="es-MX" sz="2000" spc="-1" strike="noStrike">
                <a:solidFill>
                  <a:srgbClr val="f98d43"/>
                </a:solidFill>
                <a:latin typeface="Arial"/>
              </a:rPr>
              <a:t>ambiente abierto, ágil y accesib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449360" y="2286000"/>
            <a:ext cx="6257520" cy="4114800"/>
            <a:chOff x="1449360" y="2286000"/>
            <a:chExt cx="6257520" cy="4114800"/>
          </a:xfrm>
        </p:grpSpPr>
        <p:sp>
          <p:nvSpPr>
            <p:cNvPr id="246" name=""/>
            <p:cNvSpPr/>
            <p:nvPr/>
          </p:nvSpPr>
          <p:spPr>
            <a:xfrm>
              <a:off x="1449360" y="5029200"/>
              <a:ext cx="16984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Compra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05960" y="5029200"/>
              <a:ext cx="1600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66"/>
                  </a:solidFill>
                  <a:latin typeface="Arial Narrow"/>
                </a:rPr>
                <a:t>Proveedor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655800" y="3621240"/>
              <a:ext cx="268524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25840" y="3625920"/>
              <a:ext cx="1159560" cy="1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1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1" name="Suppliers" descr=""/>
            <p:cNvPicPr/>
            <p:nvPr/>
          </p:nvPicPr>
          <p:blipFill>
            <a:blip r:embed="rId2"/>
            <a:srcRect l="19606" t="28110" r="18801" b="30332"/>
            <a:stretch/>
          </p:blipFill>
          <p:spPr>
            <a:xfrm>
              <a:off x="1641240" y="3303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Suppliers" descr=""/>
            <p:cNvPicPr/>
            <p:nvPr/>
          </p:nvPicPr>
          <p:blipFill>
            <a:blip r:embed="rId3"/>
            <a:srcRect l="19606" t="28110" r="18801" b="30332"/>
            <a:stretch/>
          </p:blipFill>
          <p:spPr>
            <a:xfrm>
              <a:off x="1641240" y="241308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Suppliers" descr=""/>
            <p:cNvPicPr/>
            <p:nvPr/>
          </p:nvPicPr>
          <p:blipFill>
            <a:blip r:embed="rId4"/>
            <a:srcRect l="19606" t="28110" r="18801" b="30332"/>
            <a:stretch/>
          </p:blipFill>
          <p:spPr>
            <a:xfrm>
              <a:off x="1641240" y="4257720"/>
              <a:ext cx="1004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 flipH="1">
              <a:off x="2647440" y="3621240"/>
              <a:ext cx="1075680" cy="95400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647440" y="2793960"/>
              <a:ext cx="107568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5"/>
            <a:stretch/>
          </p:blipFill>
          <p:spPr>
            <a:xfrm>
              <a:off x="6408720" y="2286000"/>
              <a:ext cx="1278000" cy="765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7" name="" descr=""/>
            <p:cNvPicPr/>
            <p:nvPr/>
          </p:nvPicPr>
          <p:blipFill>
            <a:blip r:embed="rId6"/>
            <a:stretch/>
          </p:blipFill>
          <p:spPr>
            <a:xfrm>
              <a:off x="6341400" y="3240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pic>
          <p:nvPicPr>
            <p:cNvPr id="258" name="" descr=""/>
            <p:cNvPicPr/>
            <p:nvPr/>
          </p:nvPicPr>
          <p:blipFill>
            <a:blip r:embed="rId7"/>
            <a:stretch/>
          </p:blipFill>
          <p:spPr>
            <a:xfrm>
              <a:off x="6341400" y="4194000"/>
              <a:ext cx="1278000" cy="765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44"/>
              </a:outerShdw>
            </a:effectLst>
          </p:spPr>
        </p:pic>
        <p:sp>
          <p:nvSpPr>
            <p:cNvPr id="259" name=""/>
            <p:cNvSpPr/>
            <p:nvPr/>
          </p:nvSpPr>
          <p:spPr>
            <a:xfrm flipH="1" flipV="1">
              <a:off x="5400720" y="3621240"/>
              <a:ext cx="940320" cy="101736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5400720" y="3621240"/>
              <a:ext cx="940320" cy="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400720" y="2793960"/>
              <a:ext cx="1008000" cy="82728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95720" y="2590920"/>
              <a:ext cx="837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Narrow"/>
                </a:rPr>
                <a:t>Port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41120" y="4199040"/>
              <a:ext cx="16254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unidad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66"/>
                  </a:solidFill>
                  <a:latin typeface="Arial Narrow"/>
                </a:rPr>
                <a:t>Comercia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647440" y="3621240"/>
              <a:ext cx="1073520" cy="95544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2714760" y="2858760"/>
              <a:ext cx="1006200" cy="762120"/>
            </a:xfrm>
            <a:prstGeom prst="line">
              <a:avLst/>
            </a:prstGeom>
            <a:ln w="5724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84720" y="5486400"/>
              <a:ext cx="6038280" cy="914400"/>
            </a:xfrm>
            <a:prstGeom prst="leftRightArrow">
              <a:avLst>
                <a:gd name="adj1" fmla="val 52778"/>
                <a:gd name="adj2" fmla="val 47692"/>
              </a:avLst>
            </a:prstGeom>
            <a:gradFill rotWithShape="0">
              <a:gsLst>
                <a:gs pos="0">
                  <a:srgbClr val="3e2500"/>
                </a:gs>
                <a:gs pos="50000">
                  <a:srgbClr val="ff9900"/>
                </a:gs>
                <a:gs pos="100000">
                  <a:srgbClr val="3e2500"/>
                </a:gs>
              </a:gsLst>
              <a:lin ang="108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Univers Condensed"/>
                </a:rPr>
                <a:t>Solución Integr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7" name="globo" descr=""/>
            <p:cNvPicPr/>
            <p:nvPr/>
          </p:nvPicPr>
          <p:blipFill>
            <a:blip r:embed="rId8"/>
            <a:stretch/>
          </p:blipFill>
          <p:spPr>
            <a:xfrm>
              <a:off x="3915000" y="3124080"/>
              <a:ext cx="1257480" cy="10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ERCADO </a:t>
            </a:r>
            <a:r>
              <a:rPr b="1" lang="es-MX" sz="24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ff9900"/>
                </a:solidFill>
                <a:latin typeface="Arial"/>
              </a:rPr>
              <a:t>IRTU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Artik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2120" y="3298680"/>
            <a:ext cx="7696080" cy="179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06752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134120" y="2320920"/>
            <a:ext cx="1857600" cy="95580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927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1160" y="2320920"/>
            <a:ext cx="18540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89560" y="269388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56160" y="2320920"/>
            <a:ext cx="18572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87800" y="269388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52960" y="2320920"/>
            <a:ext cx="185544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82800" y="269388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51200" y="2320920"/>
            <a:ext cx="1855800" cy="95580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7200" y="2320920"/>
            <a:ext cx="1780920" cy="95580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136960" y="1676520"/>
            <a:ext cx="231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9480" y="1676520"/>
            <a:ext cx="2365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98d43"/>
                </a:solidFill>
                <a:latin typeface="Arial"/>
              </a:rPr>
              <a:t>Ciclo Financi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06752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34120" y="5140440"/>
            <a:ext cx="1857600" cy="955440"/>
          </a:xfrm>
          <a:custGeom>
            <a:avLst/>
            <a:gdLst/>
            <a:ahLst/>
            <a:rect l="l" t="t" r="r" b="b"/>
            <a:pathLst>
              <a:path w="1170" h="602">
                <a:moveTo>
                  <a:pt x="43" y="0"/>
                </a:moveTo>
                <a:lnTo>
                  <a:pt x="866" y="0"/>
                </a:lnTo>
                <a:lnTo>
                  <a:pt x="1169" y="300"/>
                </a:lnTo>
                <a:lnTo>
                  <a:pt x="866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27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861160" y="5140440"/>
            <a:ext cx="18540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89560" y="5513400"/>
            <a:ext cx="5857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56160" y="5140440"/>
            <a:ext cx="18572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87800" y="5513400"/>
            <a:ext cx="58428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252960" y="5140440"/>
            <a:ext cx="185544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82800" y="5513400"/>
            <a:ext cx="587520" cy="581040"/>
          </a:xfrm>
          <a:custGeom>
            <a:avLst/>
            <a:gdLst/>
            <a:ahLst/>
            <a:rect l="l" t="t" r="r" b="b"/>
            <a:pathLst>
              <a:path w="369" h="366">
                <a:moveTo>
                  <a:pt x="324" y="0"/>
                </a:moveTo>
                <a:lnTo>
                  <a:pt x="368" y="44"/>
                </a:lnTo>
                <a:lnTo>
                  <a:pt x="43" y="365"/>
                </a:lnTo>
                <a:lnTo>
                  <a:pt x="0" y="322"/>
                </a:lnTo>
                <a:lnTo>
                  <a:pt x="324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51200" y="5140440"/>
            <a:ext cx="1855800" cy="955440"/>
          </a:xfrm>
          <a:custGeom>
            <a:avLst/>
            <a:gdLst/>
            <a:ahLst/>
            <a:rect l="l" t="t" r="r" b="b"/>
            <a:pathLst>
              <a:path w="1169" h="602">
                <a:moveTo>
                  <a:pt x="43" y="0"/>
                </a:moveTo>
                <a:lnTo>
                  <a:pt x="865" y="0"/>
                </a:lnTo>
                <a:lnTo>
                  <a:pt x="1168" y="300"/>
                </a:lnTo>
                <a:lnTo>
                  <a:pt x="865" y="601"/>
                </a:lnTo>
                <a:lnTo>
                  <a:pt x="0" y="601"/>
                </a:lnTo>
                <a:lnTo>
                  <a:pt x="325" y="279"/>
                </a:lnTo>
                <a:lnTo>
                  <a:pt x="43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7200" y="5140440"/>
            <a:ext cx="1780920" cy="955440"/>
          </a:xfrm>
          <a:custGeom>
            <a:avLst/>
            <a:gdLst/>
            <a:ahLst/>
            <a:rect l="l" t="t" r="r" b="b"/>
            <a:pathLst>
              <a:path w="1122" h="602">
                <a:moveTo>
                  <a:pt x="0" y="0"/>
                </a:moveTo>
                <a:lnTo>
                  <a:pt x="819" y="0"/>
                </a:lnTo>
                <a:lnTo>
                  <a:pt x="1121" y="300"/>
                </a:lnTo>
                <a:lnTo>
                  <a:pt x="819" y="601"/>
                </a:lnTo>
                <a:lnTo>
                  <a:pt x="0" y="601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4646"/>
              </a:gs>
              <a:gs pos="100000">
                <a:srgbClr val="009999"/>
              </a:gs>
            </a:gsLst>
            <a:lin ang="5400000"/>
          </a:gra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485200" y="6171840"/>
            <a:ext cx="0" cy="6094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9760" y="2409840"/>
            <a:ext cx="186588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elección Provee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atálogos electrónic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Solicita 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26120" y="256212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26120" y="5457960"/>
            <a:ext cx="1178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Negociación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8280" y="5457960"/>
            <a:ext cx="95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t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44792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06840" y="2486160"/>
            <a:ext cx="138276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reación / Enví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23200" y="5305320"/>
            <a:ext cx="125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Orden Comp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72040" y="5207040"/>
            <a:ext cx="1050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nví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128920" y="2387520"/>
            <a:ext cx="9928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Mercaderí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000" spc="-1" strike="noStrike">
                <a:solidFill>
                  <a:srgbClr val="ffff00"/>
                </a:solidFill>
                <a:latin typeface="Arial"/>
              </a:rPr>
              <a:t>Logístic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Factu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69200" y="2638440"/>
            <a:ext cx="1152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Efectúa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33920" y="5457960"/>
            <a:ext cx="11023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Recibe P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78800" y="263844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78800" y="5457960"/>
            <a:ext cx="1312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00"/>
                </a:solidFill>
                <a:latin typeface="Arial"/>
              </a:rPr>
              <a:t>Contabiliz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0384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10080" y="3301920"/>
            <a:ext cx="0" cy="175284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380880"/>
            <a:ext cx="883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ARTIKOS Chile</a:t>
            </a:r>
            <a:br>
              <a:rPr sz="2800"/>
            </a:br>
            <a:r>
              <a:rPr b="0" i="1" lang="en-US" sz="2800" spc="-1" strike="noStrike">
                <a:solidFill>
                  <a:srgbClr val="f98d43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98d43"/>
                </a:solidFill>
                <a:latin typeface="Arial"/>
              </a:rPr>
              <a:t>Cadena del Val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960" y="3962520"/>
            <a:ext cx="318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44"/>
                </a:solidFill>
                <a:latin typeface="Arial"/>
              </a:rPr>
              <a:t>Servicios del Mer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16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3276720"/>
            <a:ext cx="0" cy="1752480"/>
          </a:xfrm>
          <a:prstGeom prst="line">
            <a:avLst/>
          </a:prstGeom>
          <a:ln w="25560">
            <a:solidFill>
              <a:srgbClr val="006666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0:00:22Z</dcterms:created>
  <dc:creator>Iván Braga</dc:creator>
  <dc:description/>
  <dc:language>en-US</dc:language>
  <cp:lastModifiedBy>MRiera</cp:lastModifiedBy>
  <dcterms:modified xsi:type="dcterms:W3CDTF">2001-07-24T21:31:46Z</dcterms:modified>
  <cp:revision>14</cp:revision>
  <dc:subject/>
  <dc:title>Presentación de PowerPoint</dc:title>
</cp:coreProperties>
</file>