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4500-9E71-402C-A253-94BC77EC790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07C5-4CF7-4EA6-8DBE-693B49F38AD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9CFE-E2CF-48E1-AB90-50457F009B3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F26B-D7A7-4A71-B5F3-E79557ED31C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DA3B-E368-46BC-8742-9099994B239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6C41-2B2D-426A-BEEA-BDA0B096AFF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FB71-7BCE-4593-AF74-3BF89E7DDB1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C733-FFAE-455A-9DF3-5AA6F00A530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F99C-829D-44F5-AB47-704E9D5D674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DD95-6B55-4B9C-AC5D-FD4485AEFBE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0496FD0-9F9F-4B5E-92DB-A82194BA6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6F3432-9452-431C-B2D7-D22D2F4BC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8666E4-9902-448E-B37D-E873DB5F3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631EDB-907B-4A03-9594-B5E32EB5F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3A19545-8969-45C1-AF2D-F704BABEB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26DDC4-1751-40C8-940C-8FC6C94F8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456B25-53F8-4D8D-AD3D-822BE01E2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A609F9-28AC-4526-8DCA-9FE9C7D63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42EBD0-9C76-44FA-A8AB-2C8F4CE3D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8EE4922-85C0-4965-88F7-424154471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4880EC-732A-4DA2-829C-A449941BF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F14C85-9EE3-421D-B122-6AC17654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30CD2D-A45A-4C96-860D-23420107E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36967B-3E3F-4EB0-8BF6-A3E3006CF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98E623-EA40-4BC3-9BDC-F6A968CF2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6DED237-672C-4373-A772-2725FC4D4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7047FAE-1426-4D9C-B309-679933342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72BF93-989F-43C5-A3D7-E9E57B47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054272-993B-44A6-B2DE-7A944E889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8D6EFD-2055-498D-817B-82093D20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D5943C-65FD-4E7B-8969-E7C90F27C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9D7337-1AA8-48C9-BBC9-25B231E30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829DFD-B015-43F8-8FDD-AC2A96B57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3C7854-B347-404B-AC1B-A6ECFDF3C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5241-10D8-4C90-8517-4A592F1E8516}" type="datetime">
              <a:rPr b="0" lang="es-ES_tradnl" sz="1000" spc="-1" strike="noStrike">
                <a:solidFill>
                  <a:srgbClr val="ffff66"/>
                </a:solidFill>
                <a:latin typeface="Arial"/>
              </a:rPr>
              <a:t>30/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497F-1DF4-4659-9EDD-C2B8F3CBEF9A}"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8BC5-BB18-4B48-BBA4-9A95AEF8AC48}" type="datetime">
              <a:rPr b="0" lang="es-ES_tradnl" sz="1000" spc="-1" strike="noStrike">
                <a:solidFill>
                  <a:srgbClr val="ffffff"/>
                </a:solidFill>
                <a:latin typeface="Arial"/>
              </a:rPr>
              <a:t>30/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FF1A-7E21-45BF-A28E-48B7CE55EA35}"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