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2DEC-3632-4A70-A1A1-D1AD1312BA0B}"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9513-9682-49C8-9097-EEB22718E575}"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4F99-FE51-4F7F-95B5-14BFB62DCF3C}"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4600-212D-47FC-9FE6-56893901099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0EA0-692D-4F59-9D72-97349AF5AB2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FAD8-FF24-4E93-96FD-4A801FC29DC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AF267-2467-483F-89E4-F07E8B74997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A3E6-9A7B-43F0-9F76-D47BD3DD9A3A}"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3B6B-5D69-4299-BDCE-2E48C7F6FAF9}"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ACF3-5AC3-4684-B9E2-84A09F72A588}"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3CBFE77-934F-45A2-95CE-0A14EC779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105AC1-BFB2-4C97-B6B1-973E68A2E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8F68E62-BC3F-46F5-8E4C-4B724059F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B8D3A1-A946-4E37-9AAA-29B28C780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7F95CCF-2219-44C1-8EF0-628C61DCB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5CA80D-2308-4435-A04E-B6398A33C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AAEAEF-B62F-474C-B41B-F45B0F723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7C34AF6-B69A-4091-85FB-221EFA048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FAE8CD-1436-49FD-B60C-2F5C66A24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B1B5B5C-0CA4-471E-9452-CB3792306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3BA710-E26D-4A93-8928-5530E4780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88EAE49-ED75-446B-83BE-0337D81C0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866BDA-035A-4ACF-ABCE-FD3F993ED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922323-C29B-4F79-AAF2-311755052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0ACDC0-3B92-497B-B98F-C46B415D5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54C5283-065B-45E1-9A0B-E70215CD7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442B8AB-1246-4DA8-87EA-C15F0D55E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A886885-FA07-439A-8F8C-E082C0D5B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63F71E-3CA2-49BE-A0EB-346926131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EB5047-FE4B-46A8-B3B2-5725F61D3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88B8EB3-7CDE-4B9E-B846-58DECA9E9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B9572A-7019-4BAF-8F74-C719F30A8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603F624-ECF9-48AD-A443-75E058D6D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905881B-184E-4874-909C-EAA6B8F21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2061-5432-4A96-B4F6-26471DFC5CFC}" type="datetime">
              <a:rPr b="0" lang="es-ES_tradnl" sz="1000" spc="-1" strike="noStrike">
                <a:solidFill>
                  <a:srgbClr val="ffff66"/>
                </a:solidFill>
                <a:latin typeface="Arial"/>
              </a:rPr>
              <a:t>28/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38ED-BEB7-44BC-97D8-4C7E677DC5DD}"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2AE7-0EE4-4D2F-9EFF-52DA4940169A}" type="datetime">
              <a:rPr b="0" lang="es-ES_tradnl" sz="1000" spc="-1" strike="noStrike">
                <a:solidFill>
                  <a:srgbClr val="ffffff"/>
                </a:solidFill>
                <a:latin typeface="Arial"/>
              </a:rPr>
              <a:t>28/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BD47-FE93-4B86-9107-5211913B1C97}"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