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6BAA56-09C2-4673-9EB5-6C1C4D2943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F4422C-F1FA-4A94-AF8A-FAA88D4537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45E043-F998-4255-AE8C-2C540EB056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0A5EF1-9DAF-4746-93F0-2C0F60A6CE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513C90-D560-4378-BE42-DC07E746E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56E39F-80A8-4AF7-B2C5-F33EF2887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08EF4-AD16-49A5-AEC3-36F8A364F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D3D8D-795A-46D2-8DFF-96005E53E5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2148F2-4F06-444D-9FA8-688FB42889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46FB95-2FD9-44C6-AE3F-789336506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251BB2-372F-4E12-9FDB-A030D9691B5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8F7C3F-BC21-49D1-B41F-EB0A9B170B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54CA1-AA19-4F8A-BDF6-1F9C8CF5A9AF}"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1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Andy.bauman@hp.com" TargetMode="External"/><Relationship Id="rId3" Type="http://schemas.openxmlformats.org/officeDocument/2006/relationships/hyperlink" Target="mailto:Yan-fei.yang@hp.com" TargetMode="External"/><Relationship Id="rId4" Type="http://schemas.openxmlformats.org/officeDocument/2006/relationships/hyperlink" Target="mailto:Kwang-leng.seah@hp.com" TargetMode="External"/><Relationship Id="rId5" Type="http://schemas.openxmlformats.org/officeDocument/2006/relationships/hyperlink" Target="mailto:Seah-sae.iso@hp.com" TargetMode="External"/><Relationship Id="rId6" Type="http://schemas.openxmlformats.org/officeDocument/2006/relationships/hyperlink" Target="http://as.ideascp.com/cp/" TargetMode="External"/><Relationship Id="rId7" Type="http://schemas.openxmlformats.org/officeDocument/2006/relationships/hyperlink" Target="http://as.ideascp.com/cp/" TargetMode="External"/><Relationship Id="rId8" Type="http://schemas.openxmlformats.org/officeDocument/2006/relationships/hyperlink" Target="http://as.ideascp.com/cp/" TargetMode="Externa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846000"/>
          <a:ext cx="8886960" cy="6012000"/>
        </p:xfrm>
        <a:graphic>
          <a:graphicData uri="http://schemas.openxmlformats.org/drawingml/2006/table">
            <a:tbl>
              <a:tblPr/>
              <a:tblGrid>
                <a:gridCol w="2949840"/>
                <a:gridCol w="2973240"/>
                <a:gridCol w="2963880"/>
              </a:tblGrid>
              <a:tr h="6304680">
                <a:tc>
                  <a:txBody>
                    <a:bodyPr lIns="45720" rIns="45720" tIns="46800" bIns="46800" anchor="t">
                      <a:noAutofit/>
                    </a:bodyPr>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ML110 G5 (ML110 G5) is an Intel-based, single processor, entry-level, 4U form factor tower server . It is ideal for single-application IT infrastructure, web, and edge-of-network applications.</a:t>
                      </a:r>
                      <a:endParaRPr b="0" lang="en-US" sz="900" spc="-1" strike="noStrike">
                        <a:solidFill>
                          <a:srgbClr val="000000"/>
                        </a:solidFill>
                        <a:latin typeface="Futura Bk"/>
                      </a:endParaRPr>
                    </a:p>
                    <a:p>
                      <a:pPr>
                        <a:lnSpc>
                          <a:spcPct val="9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2 November 2007</a:t>
                      </a:r>
                      <a:r>
                        <a:rPr b="0" lang="en-US" sz="900" spc="-1" strike="noStrike">
                          <a:solidFill>
                            <a:srgbClr val="000000"/>
                          </a:solidFill>
                          <a:latin typeface="Futura Bk"/>
                        </a:rPr>
                        <a:t>, HP will announce the ML310 G5 as follows:</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Quad-Core Intel® Xeon® 3200 processor sequence</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M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71b5"/>
                          </a:solidFill>
                          <a:latin typeface="Futura Md"/>
                        </a:rPr>
                        <a:t>Options</a:t>
                      </a:r>
                      <a:r>
                        <a:rPr b="0" lang="en-US" sz="900" spc="-1" strike="noStrike">
                          <a:solidFill>
                            <a:srgbClr val="000000"/>
                          </a:solidFill>
                          <a:latin typeface="Futura Bk"/>
                        </a:rPr>
                        <a:t> — iLO2 functionality over shared system NIC in support of remote management</a:t>
                      </a:r>
                      <a:endParaRPr b="0" lang="en-US" sz="900" spc="-1" strike="noStrike">
                        <a:solidFill>
                          <a:srgbClr val="000000"/>
                        </a:solidFill>
                        <a:latin typeface="Futura Bk"/>
                      </a:endParaRPr>
                    </a:p>
                    <a:p>
                      <a:pP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single, dual-core, or quad-core processors:</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Quad-Core Intel® Xeon® 32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Xeon® 3000 processor sequence,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Core™2 E4400 processor, or </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ual-Core Intel® Pentium® E2160 processor, or</a:t>
                      </a:r>
                      <a:endParaRPr b="0" lang="en-US" sz="900" spc="-1" strike="noStrike">
                        <a:solidFill>
                          <a:srgbClr val="000000"/>
                        </a:solidFill>
                        <a:latin typeface="Futura Bk"/>
                      </a:endParaRPr>
                    </a:p>
                    <a:p>
                      <a:pPr lvl="2" marL="457200" indent="-114120">
                        <a:lnSpc>
                          <a:spcPct val="90000"/>
                        </a:lnSpc>
                        <a:spcAft>
                          <a:spcPts val="2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Core Intel® Celeron® 420 processor</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1P</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optimized</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a:t>
                      </a:r>
                      <a:r>
                        <a:rPr b="0" lang="en-US" sz="900" spc="-1" strike="noStrike">
                          <a:solidFill>
                            <a:srgbClr val="000000"/>
                          </a:solidFill>
                          <a:latin typeface="Futura Bk"/>
                        </a:rPr>
                        <a:t> — Up to 8GB PC2-6400 unbuffered DDR2 ECC 800MHz</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0000"/>
                          </a:solidFill>
                          <a:latin typeface="Futura Bk"/>
                        </a:rPr>
                        <a:t> — Up to 5 Total: (1) PCI Express x8, (3) PCI Express x1, Optional Extender Board for (1) 64-bit/100MHz PCI-X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Non-hot plug Serial ATA and non-hot plug SCSI</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s</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Hv"/>
                        </a:rPr>
                        <a:t>SAS</a:t>
                      </a:r>
                      <a:r>
                        <a:rPr b="0" lang="en-US" sz="900" spc="-1" strike="noStrike">
                          <a:solidFill>
                            <a:srgbClr val="000000"/>
                          </a:solidFill>
                          <a:latin typeface="Futura Bk"/>
                        </a:rPr>
                        <a:t> — HP SC40Ge SAS HBA with RAID 0,1 in a PCI Express slot; </a:t>
                      </a:r>
                      <a:r>
                        <a:rPr b="0" lang="en-US" sz="900" spc="-1" strike="noStrike">
                          <a:solidFill>
                            <a:srgbClr val="000000"/>
                          </a:solidFill>
                          <a:latin typeface="Futura Hv"/>
                        </a:rPr>
                        <a:t>SATA</a:t>
                      </a:r>
                      <a:r>
                        <a:rPr b="0" lang="en-US" sz="900" spc="-1" strike="noStrike">
                          <a:solidFill>
                            <a:srgbClr val="000000"/>
                          </a:solidFill>
                          <a:latin typeface="Futura Bk"/>
                        </a:rPr>
                        <a:t> —Embedded SATA with integrated SATA RAID 0,1</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Lights Out 100c Remote Management Card </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Redundant, hot plug power supply</a:t>
                      </a:r>
                      <a:endParaRPr b="0" lang="en-US" sz="900" spc="-1" strike="noStrike">
                        <a:solidFill>
                          <a:srgbClr val="000000"/>
                        </a:solidFill>
                        <a:latin typeface="Futura Bk"/>
                      </a:endParaRPr>
                    </a:p>
                    <a:p>
                      <a:pPr lvl="1" marL="228600" indent="-114120">
                        <a:lnSpc>
                          <a:spcPct val="90000"/>
                        </a:lnSpc>
                        <a:spcAft>
                          <a:spcPts val="224"/>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Hardware diagnostic support and repair is available for one year from date of purchase. Support for software and initial setup is available for 90 days from date of purchase. SATA hard drives have a one year warranty</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lvl="1" marL="233280" indent="-118800">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best value and well-suited for:</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pendable, easy-to-use workgroup server for hosting basic file/print for 20 or fewer client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latform for light application hosting, shared web access, groupware, or small database application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ntry-level for small businesses</a:t>
                      </a:r>
                      <a:endParaRPr b="0" lang="en-US" sz="900" spc="-1" strike="noStrike">
                        <a:solidFill>
                          <a:srgbClr val="000000"/>
                        </a:solidFill>
                        <a:latin typeface="Futura Bk"/>
                      </a:endParaRPr>
                    </a:p>
                    <a:p>
                      <a:pPr lvl="1" marL="233280" indent="-11880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me price as misapplied desktop PCs</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ook for customers with the following business requirements:</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Ｐゴシック"/>
                        </a:rPr>
                        <a:t>Utilizing one-way ProLiant servers for general purpose or entry-level systems. </a:t>
                      </a:r>
                      <a:r>
                        <a:rPr b="0" i="1" lang="en-US" sz="900" spc="-1" strike="noStrike">
                          <a:solidFill>
                            <a:srgbClr val="00558e"/>
                          </a:solidFill>
                          <a:latin typeface="Futura Hv"/>
                          <a:ea typeface="ＭＳ Ｐゴシック"/>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The ML110 G5 is designed with a balanced architecture to drive the adoption of quad-core technology to its line of single processor systems. The ML110 G5 targets customers with single-tier, simple architectures, homogeneous environments with single applications and workloads, and requires very little IT support.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as a limited budget for server hardware, but Supporting locations with a limited IT staff.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10 G5 is well-purposed for small businesses or remote sites with minimal technology skills, limited, or no IT staff. These customers need a reliable server that requires little attention or maintenance and has the warranties and support of a branded-top tier vendor. The ML110 G5 can be remotely managed for remote sites or second offices. </a:t>
                      </a:r>
                      <a:endParaRPr b="0" lang="en-US" sz="900" spc="-1" strike="noStrike">
                        <a:solidFill>
                          <a:srgbClr val="000000"/>
                        </a:solidFill>
                        <a:latin typeface="Futura Bk"/>
                      </a:endParaRPr>
                    </a:p>
                    <a:p>
                      <a:pPr lvl="1" marL="233280" indent="-118800">
                        <a:lnSpc>
                          <a:spcPct val="10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Obtaining data protection at an affordable price.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09440">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is an efficiently sized server that is ideal for small offices, first networks and remote sites. It delivers true server reliability and functionality for the price of a typical desktop computer.</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lying on the server to run industry-standard applications.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applications include file and print, web messaging, small vertical applications or databases, and shared Internet access and LAN infrastructure. Ideal ML110 G5 rely on servers to run day-to-day applications for their growing businesses and they require a server powerful enough to drive these applications. </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urchasing an easy-to-own server. </a:t>
                      </a:r>
                      <a:r>
                        <a:rPr b="0" i="1" lang="en-US" sz="900" spc="-1" strike="noStrike">
                          <a:solidFill>
                            <a:srgbClr val="00558e"/>
                          </a:solidFill>
                          <a:latin typeface="Futura Hv"/>
                        </a:rPr>
                        <a:t>Why?</a:t>
                      </a:r>
                      <a:endParaRPr b="0" lang="en-US" sz="900" spc="-1" strike="noStrike">
                        <a:solidFill>
                          <a:srgbClr val="000000"/>
                        </a:solidFill>
                        <a:latin typeface="Futura Bk"/>
                      </a:endParaRPr>
                    </a:p>
                    <a:p>
                      <a:pPr lvl="2" marL="4572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Designed specifically for businesses that require an easy-to-configure, easy-to-use platform. All major components are designed to be removed or installed with little effort. When growth becomes necessary for a small business network, the ML110 G5 is easily reconfigurable.</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8000"/>
                          </a:solidFill>
                          <a:latin typeface="Futura Hv"/>
                        </a:rPr>
                        <a:t>Green light deals (must wi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enterprise class performance and feature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quires remote management capability</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Requires consistent, reliable server performance at an affordable price</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dd9e01"/>
                          </a:solidFill>
                          <a:latin typeface="Futura Hv"/>
                        </a:rPr>
                        <a:t> </a:t>
                      </a:r>
                      <a:r>
                        <a:rPr b="0" lang="en-US" sz="900" spc="-1" strike="noStrike">
                          <a:solidFill>
                            <a:srgbClr val="dd9e01"/>
                          </a:solidFill>
                          <a:latin typeface="Futura Hv"/>
                        </a:rPr>
                        <a:t>Yellow light deals (more qualification)</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a growing small business with a very limited budget for hardware but requires high availability to meet the needs of their clients</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ensure their hardware purchase has a long lifecycle to protect their investment</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a50021"/>
                          </a:solidFill>
                          <a:latin typeface="Futura Hv"/>
                        </a:rPr>
                        <a:t>Red light deals (walk away) </a:t>
                      </a:r>
                      <a:endParaRPr b="0" lang="en-US" sz="900" spc="-1" strike="noStrike">
                        <a:solidFill>
                          <a:srgbClr val="000000"/>
                        </a:solidFill>
                        <a:latin typeface="Futura Bk"/>
                      </a:endParaRPr>
                    </a:p>
                    <a:p>
                      <a:pPr lvl="1" marL="228600" indent="-114120">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0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performing back-ups and does not feel their business or infrastructure is adversely impacted by their process</a:t>
                      </a:r>
                      <a:endParaRPr b="0" lang="en-US" sz="900" spc="-1" strike="noStrike">
                        <a:solidFill>
                          <a:srgbClr val="000000"/>
                        </a:solidFill>
                        <a:latin typeface="Futura Bk"/>
                      </a:endParaRPr>
                    </a:p>
                    <a:p>
                      <a:pPr>
                        <a:lnSpc>
                          <a:spcPct val="90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10 G5 on HP.com</a:t>
                      </a:r>
                      <a:endParaRPr b="0" lang="en-US" sz="900" spc="-1" strike="noStrike">
                        <a:solidFill>
                          <a:srgbClr val="000000"/>
                        </a:solidFill>
                        <a:latin typeface="Futura Bk"/>
                      </a:endParaRPr>
                    </a:p>
                    <a:p>
                      <a:pPr>
                        <a:lnSpc>
                          <a:spcPct val="9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1"/>
                        </a:rPr>
                        <a:t>http://www.hp.com/servers/proliantml11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HP ProLiant ML110 G5 Server</a:t>
            </a:r>
            <a:endParaRPr b="0" lang="en-US" sz="28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6" name="" descr=""/>
          <p:cNvPicPr/>
          <p:nvPr/>
        </p:nvPicPr>
        <p:blipFill>
          <a:blip r:embed="rId3"/>
          <a:stretch/>
        </p:blipFill>
        <p:spPr>
          <a:xfrm>
            <a:off x="5581800" y="0"/>
            <a:ext cx="542880" cy="106524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000000"/>
                </a:solidFill>
                <a:latin typeface="Futura Bk"/>
              </a:rPr>
              <a:t>HP ProLiant ML310 G5 Server</a:t>
            </a:r>
            <a:endParaRPr b="0" lang="en-US" sz="28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1"/>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graphicFrame>
        <p:nvGraphicFramePr>
          <p:cNvPr id="144" name=""/>
          <p:cNvGraphicFramePr/>
          <p:nvPr/>
        </p:nvGraphicFramePr>
        <p:xfrm>
          <a:off x="399960" y="1036800"/>
          <a:ext cx="8586720" cy="5391000"/>
        </p:xfrm>
        <a:graphic>
          <a:graphicData uri="http://schemas.openxmlformats.org/drawingml/2006/table">
            <a:tbl>
              <a:tblPr/>
              <a:tblGrid>
                <a:gridCol w="962280"/>
                <a:gridCol w="2581200"/>
                <a:gridCol w="2609640"/>
                <a:gridCol w="2433600"/>
              </a:tblGrid>
              <a:tr h="2311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P ProLiant ML31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ell PowerEdge 84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c>
                  <a:txBody>
                    <a:bodyPr lIns="45720" rIns="4572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BM System x3200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000000"/>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latfor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INUX,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5424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Operating system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CO UNIX, SUSE Linux, NetWare, Window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ed Hat Linux, SUSE Linux, Windows</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fami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Core,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Xe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9558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20 (1.6GHz 35W), Pentium E2160 (1.8GHz 65W), Core 2 Duo E4400 (2.0GHz 65W), Xeon X3065 (2.33GHz 65W), Xeon X3075 (2.66GHz 65W), Xeon X3210 (2.13GHz 95W), Xeon X3220 (2.4GHz 95W)</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eleron 430 (1.8GHz), Pentium D 935 (3.2GHz), Pentium E2160 (1.8GHz)</a:t>
                      </a:r>
                      <a:br>
                        <a:rPr sz="900"/>
                      </a:br>
                      <a:r>
                        <a:rPr b="0" lang="en-US" sz="900" spc="-1" strike="noStrike">
                          <a:solidFill>
                            <a:srgbClr val="000000"/>
                          </a:solidFill>
                          <a:latin typeface="Futura Bk"/>
                        </a:rPr>
                        <a:t>Core 2 Duo (2.2GHz), Xeon 3040 (1.86GHz), Xeon 3050 (2.13GHz)</a:t>
                      </a:r>
                      <a:br>
                        <a:rPr sz="900"/>
                      </a:br>
                      <a:r>
                        <a:rPr b="0" lang="en-US" sz="900" spc="-1" strike="noStrike">
                          <a:solidFill>
                            <a:srgbClr val="000000"/>
                          </a:solidFill>
                          <a:latin typeface="Futura Bk"/>
                        </a:rPr>
                        <a:t>Xeon 3060 (2.4GHz), Xeon 3070 (2.66GHz), Xeon X3210 (2.13GHz)</a:t>
                      </a:r>
                      <a:br>
                        <a:rPr sz="900"/>
                      </a:br>
                      <a:r>
                        <a:rPr b="0" lang="en-US" sz="900" spc="-1" strike="noStrike">
                          <a:solidFill>
                            <a:srgbClr val="000000"/>
                          </a:solidFill>
                          <a:latin typeface="Futura Bk"/>
                        </a:rPr>
                        <a:t>Xeon X3220 (2.4GHz), Xeon X3230 (2.6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945 (3.4GHz), Pentium E2160 (1.8GHz)</a:t>
                      </a:r>
                      <a:br>
                        <a:rPr sz="900"/>
                      </a:br>
                      <a:r>
                        <a:rPr b="0" lang="en-US" sz="900" spc="-1" strike="noStrike">
                          <a:solidFill>
                            <a:srgbClr val="000000"/>
                          </a:solidFill>
                          <a:latin typeface="Futura Bk"/>
                        </a:rPr>
                        <a:t>Xeon 3040 (1.87GHz), Xeon 3050 (2.13GHz), Xeon 3060 (2.4GHz), Xeon X3210 (2.13GHz), Xeon X3220 (2.4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Celeron), 1 x 1MB (Pen 2100), 1 x 2MB (Core 2 4000), 1 x 4MB (Xeon 3000) or 1 x 8MB (Xeon 3200) L2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KB L2 (Celeron), 2 x 2MB L2 (Pen D), 2MB (Core 2), 2MB or 4MB L2 (3000 Series) or 2 x 4MB L2 (X3200 Seri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ntium D: 2 x 2MB L2; Pentium E: 1MB L2; Xeon 3000: 2MB, 4MB L2; Xeon 3200: 8M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Chipse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2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0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l 301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Memor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12MB minimum, 8GB maximum, DDR2 SDRAM, unbuffered ECC</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controlle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port SAS (SAS models), embedded SATA (SATA/SAS model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Disk maximum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4,000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000GB (SATA onl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RAID 0, 1; Optional RAID 1+0, 5, 6</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RAID 0, 1, 5</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ot Swap: RAID 0,1</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2170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 disk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AS and SATA</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34020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I/O slot type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x PCI Express x1, 1 x 64-bit, 100MHz PCI-X on optional extender board</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 PCI Express x8, 1 x PCI Express x1</a:t>
                      </a:r>
                      <a:br>
                        <a:rPr sz="900"/>
                      </a:br>
                      <a:r>
                        <a:rPr b="0" lang="en-US" sz="900" spc="-1" strike="noStrike">
                          <a:solidFill>
                            <a:srgbClr val="000000"/>
                          </a:solidFill>
                          <a:latin typeface="Futura Bk"/>
                        </a:rPr>
                        <a:t>2 x PCI-X 64-bit/133MHz, 1 x PCI 32-bit/33M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 x PCI 32-bit/33MHz, 2 x PCI-Express (one x1 and one x8)</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46332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Hot swap/</a:t>
                      </a:r>
                      <a:br>
                        <a:rPr sz="900"/>
                      </a:br>
                      <a:r>
                        <a:rPr b="0" lang="en-US" sz="900" spc="-1" strike="noStrike">
                          <a:solidFill>
                            <a:srgbClr val="ffffff"/>
                          </a:solidFill>
                          <a:latin typeface="Futura Hv"/>
                        </a:rPr>
                        <a:t>redundant power supply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50021">
                        <a:alpha val="2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o/No</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tandard</a:t>
                      </a:r>
                      <a:br>
                        <a:rPr sz="900"/>
                      </a:b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alpha val="30000"/>
                      </a:srgbClr>
                    </a:solidFill>
                  </a:tcPr>
                </a:tc>
              </a:tr>
              <a:tr h="652680">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5f5f5f"/>
                    </a:solidFill>
                  </a:tcPr>
                </a:tc>
                <a:tc gridSpan="2">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a:t>
                      </a:r>
                      <a:r>
                        <a:rPr b="0" lang="en-US" sz="900" spc="-1" strike="noStrike">
                          <a:solidFill>
                            <a:srgbClr val="000000"/>
                          </a:solidFill>
                          <a:latin typeface="Futura Hv"/>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Andy.bauman@hp.com</a:t>
                      </a:r>
                      <a:r>
                        <a:rPr b="0" lang="en-US" sz="900" spc="-1" strike="noStrike">
                          <a:solidFill>
                            <a:srgbClr val="000000"/>
                          </a:solidFill>
                          <a:latin typeface="Futura Bk"/>
                        </a:rPr>
                        <a:t> — Houston, TX USA</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a:t>
                      </a:r>
                      <a:r>
                        <a:rPr b="0" lang="en-US" sz="900" spc="-1" strike="noStrike">
                          <a:solidFill>
                            <a:srgbClr val="000000"/>
                          </a:solidFill>
                          <a:latin typeface="Futura Hv"/>
                        </a:rPr>
                        <a:t>Yan 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Yan-fei.yang@hp.com</a:t>
                      </a:r>
                      <a:r>
                        <a:rPr b="0" lang="en-US" sz="900" spc="-1" strike="noStrike">
                          <a:solidFill>
                            <a:srgbClr val="000000"/>
                          </a:solidFill>
                          <a:latin typeface="Futura Bk"/>
                        </a:rPr>
                        <a:t> — Meyrin, Switzerland</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sia Pacific: </a:t>
                      </a:r>
                      <a:r>
                        <a:rPr b="0" lang="en-US" sz="900" spc="-1" strike="noStrike">
                          <a:solidFill>
                            <a:srgbClr val="000000"/>
                          </a:solidFill>
                          <a:latin typeface="Futura Hv"/>
                        </a:rPr>
                        <a:t>Kwang Leng Seah</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Kwang-leng.seah@hp.com</a:t>
                      </a:r>
                      <a:r>
                        <a:rPr b="0" lang="en-US" sz="900" spc="-1" strike="noStrike">
                          <a:solidFill>
                            <a:srgbClr val="000000"/>
                          </a:solidFill>
                          <a:latin typeface="Futura Bk"/>
                        </a:rPr>
                        <a:t> — Singapore</a:t>
                      </a:r>
                      <a:endParaRPr b="0" lang="en-US" sz="900" spc="-1" strike="noStrike">
                        <a:solidFill>
                          <a:srgbClr val="000000"/>
                        </a:solidFill>
                        <a:latin typeface="Futura Bk"/>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a:t>
                      </a:r>
                      <a:r>
                        <a:rPr b="0" lang="en-US" sz="900" spc="-1" strike="noStrike">
                          <a:solidFill>
                            <a:srgbClr val="000000"/>
                          </a:solidFill>
                          <a:latin typeface="Futura Hv"/>
                        </a:rPr>
                        <a:t>Seah Sae Iso</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Seah-sae.iso@hp.com</a:t>
                      </a:r>
                      <a:r>
                        <a:rPr b="0" lang="en-US" sz="900" spc="-1" strike="noStrike">
                          <a:solidFill>
                            <a:srgbClr val="000000"/>
                          </a:solidFill>
                          <a:latin typeface="Futura Bk"/>
                        </a:rPr>
                        <a:t> — Tokyo, Japan</a:t>
                      </a:r>
                      <a:endParaRPr b="0" lang="en-US" sz="900" spc="-1" strike="noStrike">
                        <a:solidFill>
                          <a:srgbClr val="000000"/>
                        </a:solidFill>
                        <a:latin typeface="Futura Bk"/>
                      </a:endParaRPr>
                    </a:p>
                  </a:txBody>
                  <a:tcPr anchor="t" marL="45720" marR="45720">
                    <a:lnL w="13680">
                      <a:solidFill>
                        <a:srgbClr val="ffffff"/>
                      </a:solidFill>
                    </a:lnL>
                    <a:lnR>
                      <a:noFill/>
                    </a:lnR>
                    <a:lnT w="13680">
                      <a:solidFill>
                        <a:srgbClr val="ffffff"/>
                      </a:solidFill>
                    </a:lnT>
                    <a:lnB>
                      <a:noFill/>
                    </a:lnB>
                    <a:solidFill>
                      <a:srgbClr val="aaabb0">
                        <a:alpha val="30000"/>
                      </a:srgbClr>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a:txBody>
                    <a:bodyPr lIns="45720" rIns="4572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a:noFill/>
                    </a:lnL>
                    <a:lnR>
                      <a:noFill/>
                    </a:lnR>
                    <a:lnT w="13680">
                      <a:solidFill>
                        <a:srgbClr val="ffffff"/>
                      </a:solidFill>
                    </a:lnT>
                    <a:lnB>
                      <a:noFill/>
                    </a:lnB>
                    <a:solidFill>
                      <a:srgbClr val="aaabb0">
                        <a:alpha val="30000"/>
                      </a:srgbClr>
                    </a:solidFill>
                  </a:tcPr>
                </a:tc>
              </a:tr>
            </a:tbl>
          </a:graphicData>
        </a:graphic>
      </p:graphicFrame>
      <p:sp>
        <p:nvSpPr>
          <p:cNvPr id="145" name=""/>
          <p:cNvSpPr/>
          <p:nvPr/>
        </p:nvSpPr>
        <p:spPr>
          <a:xfrm>
            <a:off x="7391520" y="5878440"/>
            <a:ext cx="1562040" cy="523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ource: </a:t>
            </a:r>
            <a:r>
              <a:rPr b="0" lang="en-US" sz="900" spc="-1" strike="noStrike">
                <a:solidFill>
                  <a:srgbClr val="000000"/>
                </a:solidFill>
                <a:latin typeface="Futura Hv"/>
              </a:rPr>
              <a:t>Competitive Profiles:</a:t>
            </a:r>
            <a:endParaRPr b="0" lang="en-US" sz="900" spc="-1" strike="noStrike">
              <a:solidFill>
                <a:srgbClr val="000000"/>
              </a:solidFill>
              <a:latin typeface="Futura B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Bk"/>
                <a:hlinkClick r:id="rId6"/>
              </a:rPr>
              <a:t>http://</a:t>
            </a:r>
            <a:r>
              <a:rPr b="0" lang="en-US" sz="900" spc="-1" strike="noStrike" u="sng">
                <a:solidFill>
                  <a:srgbClr val="eb5f01"/>
                </a:solidFill>
                <a:uFillTx/>
                <a:latin typeface="Futura Bk"/>
                <a:hlinkClick r:id="rId7"/>
              </a:rPr>
              <a:t>as.ideascp.com</a:t>
            </a:r>
            <a:r>
              <a:rPr b="0" lang="en-US" sz="900" spc="-1" strike="noStrike" u="sng">
                <a:solidFill>
                  <a:srgbClr val="eb5f01"/>
                </a:solidFill>
                <a:uFillTx/>
                <a:latin typeface="Futura Bk"/>
                <a:hlinkClick r:id="rId8"/>
              </a:rPr>
              <a:t>/cp/</a:t>
            </a:r>
            <a:endParaRPr b="0" lang="en-US" sz="9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2 November 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5:31Z</dcterms:modified>
  <cp:revision>243</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