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072-6031-4A89-B5E9-27038FFFD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4B0-F140-4053-8680-D79A47DE1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A710-87CF-4FC5-95D9-0F153579B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4598-3D47-4B17-9788-0FBCD1BF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EE93-612D-4AD8-88EC-DD3307D3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6004-F127-4279-98C1-625F12AA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2538360"/>
            <a:ext cx="594360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774-FCC0-4CAA-BD38-93A17C38F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C7AB-FD83-42B9-8DAF-B27C1C0C7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433680" y="631800"/>
            <a:ext cx="2311560" cy="1733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538000"/>
            <a:ext cx="5943600" cy="54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4E5F-FC45-468B-9BFF-B5459ED0A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9336-F66E-434E-9378-1D40C0820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69C7-C4DD-43F3-9FE8-A016F4BBC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4344-7701-4372-95E6-111E340D7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DB85-8D7A-4E7F-A2DE-B2F9BB700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424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7800" y="154944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5068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424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7800" y="3738960"/>
            <a:ext cx="2526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2A0B-B1BA-478A-9AED-1B6FD7B45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2E1F-3107-4C61-8DFE-EB5B0E5BC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B6F9-944D-4D2A-B301-54D96CD89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81080" y="353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EE51-4EC0-4C7D-A833-17A5A9C79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0165-D4FB-4FFE-ABD8-B05A69001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2240" y="373896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557B-268E-494D-BA63-6CD77299E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068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2240" y="1549440"/>
            <a:ext cx="3829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0680" y="3738960"/>
            <a:ext cx="7848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574F-DE1C-4DC0-A5D6-73388DAE0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753080" y="63115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E8F-13EA-4DEA-AD1C-73FFE66C99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236680" y="63115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3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6" name="word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line" descr=""/>
          <p:cNvPicPr/>
          <p:nvPr/>
        </p:nvPicPr>
        <p:blipFill>
          <a:blip r:embed="rId4"/>
          <a:srcRect l="10998" t="12000" r="0" b="82671"/>
          <a:stretch/>
        </p:blipFill>
        <p:spPr>
          <a:xfrm>
            <a:off x="1117440" y="1003320"/>
            <a:ext cx="6858000" cy="307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981080" y="353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850680" y="154944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814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814"/>
              </a:spcBef>
              <a:buClr>
                <a:srgbClr val="5f72d4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814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814"/>
              </a:spcBef>
              <a:buClr>
                <a:srgbClr val="160ba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814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" name="www.compaq" descr=""/>
          <p:cNvPicPr/>
          <p:nvPr/>
        </p:nvPicPr>
        <p:blipFill>
          <a:blip r:embed="rId5"/>
          <a:srcRect l="69504" t="87546" r="2953" b="6545"/>
          <a:stretch/>
        </p:blipFill>
        <p:spPr>
          <a:xfrm>
            <a:off x="5867280" y="5943600"/>
            <a:ext cx="29718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231624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ftr" idx="3"/>
          </p:nvPr>
        </p:nvSpPr>
        <p:spPr>
          <a:xfrm>
            <a:off x="2700000" y="6311520"/>
            <a:ext cx="2895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50920" y="271440"/>
            <a:ext cx="1718640" cy="6294240"/>
            <a:chOff x="250920" y="271440"/>
            <a:chExt cx="1718640" cy="6294240"/>
          </a:xfrm>
        </p:grpSpPr>
        <p:sp>
          <p:nvSpPr>
            <p:cNvPr id="50" name=""/>
            <p:cNvSpPr/>
            <p:nvPr/>
          </p:nvSpPr>
          <p:spPr>
            <a:xfrm>
              <a:off x="620640" y="271440"/>
              <a:ext cx="917640" cy="954000"/>
            </a:xfrm>
            <a:custGeom>
              <a:avLst/>
              <a:gdLst/>
              <a:ahLst/>
              <a:rect l="l" t="t" r="r" b="b"/>
              <a:pathLst>
                <a:path w="955" h="922">
                  <a:moveTo>
                    <a:pt x="720" y="663"/>
                  </a:moveTo>
                  <a:lnTo>
                    <a:pt x="739" y="622"/>
                  </a:lnTo>
                  <a:lnTo>
                    <a:pt x="758" y="573"/>
                  </a:lnTo>
                  <a:lnTo>
                    <a:pt x="836" y="330"/>
                  </a:lnTo>
                  <a:lnTo>
                    <a:pt x="849" y="284"/>
                  </a:lnTo>
                  <a:lnTo>
                    <a:pt x="858" y="244"/>
                  </a:lnTo>
                  <a:lnTo>
                    <a:pt x="865" y="208"/>
                  </a:lnTo>
                  <a:lnTo>
                    <a:pt x="867" y="175"/>
                  </a:lnTo>
                  <a:lnTo>
                    <a:pt x="866" y="154"/>
                  </a:lnTo>
                  <a:lnTo>
                    <a:pt x="862" y="134"/>
                  </a:lnTo>
                  <a:lnTo>
                    <a:pt x="858" y="116"/>
                  </a:lnTo>
                  <a:lnTo>
                    <a:pt x="850" y="99"/>
                  </a:lnTo>
                  <a:lnTo>
                    <a:pt x="841" y="83"/>
                  </a:lnTo>
                  <a:lnTo>
                    <a:pt x="829" y="69"/>
                  </a:lnTo>
                  <a:lnTo>
                    <a:pt x="815" y="55"/>
                  </a:lnTo>
                  <a:lnTo>
                    <a:pt x="798" y="44"/>
                  </a:lnTo>
                  <a:lnTo>
                    <a:pt x="780" y="34"/>
                  </a:lnTo>
                  <a:lnTo>
                    <a:pt x="758" y="25"/>
                  </a:lnTo>
                  <a:lnTo>
                    <a:pt x="732" y="17"/>
                  </a:lnTo>
                  <a:lnTo>
                    <a:pt x="705" y="12"/>
                  </a:lnTo>
                  <a:lnTo>
                    <a:pt x="674" y="7"/>
                  </a:lnTo>
                  <a:lnTo>
                    <a:pt x="641" y="3"/>
                  </a:lnTo>
                  <a:lnTo>
                    <a:pt x="564" y="0"/>
                  </a:lnTo>
                  <a:lnTo>
                    <a:pt x="459" y="0"/>
                  </a:lnTo>
                  <a:lnTo>
                    <a:pt x="388" y="1"/>
                  </a:lnTo>
                  <a:lnTo>
                    <a:pt x="328" y="7"/>
                  </a:lnTo>
                  <a:lnTo>
                    <a:pt x="300" y="11"/>
                  </a:lnTo>
                  <a:lnTo>
                    <a:pt x="276" y="17"/>
                  </a:lnTo>
                  <a:lnTo>
                    <a:pt x="253" y="26"/>
                  </a:lnTo>
                  <a:lnTo>
                    <a:pt x="231" y="37"/>
                  </a:lnTo>
                  <a:lnTo>
                    <a:pt x="211" y="50"/>
                  </a:lnTo>
                  <a:lnTo>
                    <a:pt x="191" y="67"/>
                  </a:lnTo>
                  <a:lnTo>
                    <a:pt x="173" y="86"/>
                  </a:lnTo>
                  <a:lnTo>
                    <a:pt x="157" y="109"/>
                  </a:lnTo>
                  <a:lnTo>
                    <a:pt x="140" y="137"/>
                  </a:lnTo>
                  <a:lnTo>
                    <a:pt x="125" y="168"/>
                  </a:lnTo>
                  <a:lnTo>
                    <a:pt x="110" y="203"/>
                  </a:lnTo>
                  <a:lnTo>
                    <a:pt x="95" y="243"/>
                  </a:lnTo>
                  <a:lnTo>
                    <a:pt x="28" y="457"/>
                  </a:lnTo>
                  <a:lnTo>
                    <a:pt x="13" y="512"/>
                  </a:lnTo>
                  <a:lnTo>
                    <a:pt x="5" y="561"/>
                  </a:lnTo>
                  <a:lnTo>
                    <a:pt x="0" y="604"/>
                  </a:lnTo>
                  <a:lnTo>
                    <a:pt x="2" y="642"/>
                  </a:lnTo>
                  <a:lnTo>
                    <a:pt x="8" y="675"/>
                  </a:lnTo>
                  <a:lnTo>
                    <a:pt x="18" y="703"/>
                  </a:lnTo>
                  <a:lnTo>
                    <a:pt x="32" y="728"/>
                  </a:lnTo>
                  <a:lnTo>
                    <a:pt x="49" y="748"/>
                  </a:lnTo>
                  <a:lnTo>
                    <a:pt x="68" y="764"/>
                  </a:lnTo>
                  <a:lnTo>
                    <a:pt x="91" y="778"/>
                  </a:lnTo>
                  <a:lnTo>
                    <a:pt x="115" y="787"/>
                  </a:lnTo>
                  <a:lnTo>
                    <a:pt x="141" y="796"/>
                  </a:lnTo>
                  <a:lnTo>
                    <a:pt x="168" y="801"/>
                  </a:lnTo>
                  <a:lnTo>
                    <a:pt x="196" y="804"/>
                  </a:lnTo>
                  <a:lnTo>
                    <a:pt x="253" y="806"/>
                  </a:lnTo>
                  <a:lnTo>
                    <a:pt x="296" y="806"/>
                  </a:lnTo>
                  <a:lnTo>
                    <a:pt x="308" y="791"/>
                  </a:lnTo>
                  <a:lnTo>
                    <a:pt x="322" y="776"/>
                  </a:lnTo>
                  <a:lnTo>
                    <a:pt x="355" y="749"/>
                  </a:lnTo>
                  <a:lnTo>
                    <a:pt x="394" y="723"/>
                  </a:lnTo>
                  <a:lnTo>
                    <a:pt x="438" y="703"/>
                  </a:lnTo>
                  <a:lnTo>
                    <a:pt x="486" y="686"/>
                  </a:lnTo>
                  <a:lnTo>
                    <a:pt x="539" y="674"/>
                  </a:lnTo>
                  <a:lnTo>
                    <a:pt x="596" y="666"/>
                  </a:lnTo>
                  <a:lnTo>
                    <a:pt x="654" y="663"/>
                  </a:lnTo>
                  <a:lnTo>
                    <a:pt x="680" y="664"/>
                  </a:lnTo>
                  <a:lnTo>
                    <a:pt x="680" y="664"/>
                  </a:lnTo>
                  <a:lnTo>
                    <a:pt x="645" y="666"/>
                  </a:lnTo>
                  <a:lnTo>
                    <a:pt x="611" y="671"/>
                  </a:lnTo>
                  <a:lnTo>
                    <a:pt x="578" y="679"/>
                  </a:lnTo>
                  <a:lnTo>
                    <a:pt x="546" y="688"/>
                  </a:lnTo>
                  <a:lnTo>
                    <a:pt x="516" y="700"/>
                  </a:lnTo>
                  <a:lnTo>
                    <a:pt x="487" y="713"/>
                  </a:lnTo>
                  <a:lnTo>
                    <a:pt x="460" y="728"/>
                  </a:lnTo>
                  <a:lnTo>
                    <a:pt x="436" y="744"/>
                  </a:lnTo>
                  <a:lnTo>
                    <a:pt x="413" y="762"/>
                  </a:lnTo>
                  <a:lnTo>
                    <a:pt x="392" y="782"/>
                  </a:lnTo>
                  <a:lnTo>
                    <a:pt x="374" y="802"/>
                  </a:lnTo>
                  <a:lnTo>
                    <a:pt x="358" y="824"/>
                  </a:lnTo>
                  <a:lnTo>
                    <a:pt x="345" y="848"/>
                  </a:lnTo>
                  <a:lnTo>
                    <a:pt x="335" y="871"/>
                  </a:lnTo>
                  <a:lnTo>
                    <a:pt x="328" y="896"/>
                  </a:lnTo>
                  <a:lnTo>
                    <a:pt x="324" y="922"/>
                  </a:lnTo>
                  <a:lnTo>
                    <a:pt x="344" y="897"/>
                  </a:lnTo>
                  <a:lnTo>
                    <a:pt x="368" y="875"/>
                  </a:lnTo>
                  <a:lnTo>
                    <a:pt x="397" y="855"/>
                  </a:lnTo>
                  <a:lnTo>
                    <a:pt x="429" y="838"/>
                  </a:lnTo>
                  <a:lnTo>
                    <a:pt x="464" y="825"/>
                  </a:lnTo>
                  <a:lnTo>
                    <a:pt x="502" y="815"/>
                  </a:lnTo>
                  <a:lnTo>
                    <a:pt x="542" y="808"/>
                  </a:lnTo>
                  <a:lnTo>
                    <a:pt x="582" y="806"/>
                  </a:lnTo>
                  <a:lnTo>
                    <a:pt x="911" y="806"/>
                  </a:lnTo>
                  <a:lnTo>
                    <a:pt x="955" y="663"/>
                  </a:lnTo>
                  <a:lnTo>
                    <a:pt x="720" y="663"/>
                  </a:lnTo>
                  <a:close/>
                  <a:moveTo>
                    <a:pt x="601" y="300"/>
                  </a:moveTo>
                  <a:lnTo>
                    <a:pt x="524" y="540"/>
                  </a:lnTo>
                  <a:lnTo>
                    <a:pt x="512" y="572"/>
                  </a:lnTo>
                  <a:lnTo>
                    <a:pt x="500" y="598"/>
                  </a:lnTo>
                  <a:lnTo>
                    <a:pt x="487" y="620"/>
                  </a:lnTo>
                  <a:lnTo>
                    <a:pt x="472" y="635"/>
                  </a:lnTo>
                  <a:lnTo>
                    <a:pt x="453" y="647"/>
                  </a:lnTo>
                  <a:lnTo>
                    <a:pt x="431" y="656"/>
                  </a:lnTo>
                  <a:lnTo>
                    <a:pt x="403" y="660"/>
                  </a:lnTo>
                  <a:lnTo>
                    <a:pt x="367" y="661"/>
                  </a:lnTo>
                  <a:lnTo>
                    <a:pt x="338" y="661"/>
                  </a:lnTo>
                  <a:lnTo>
                    <a:pt x="301" y="659"/>
                  </a:lnTo>
                  <a:lnTo>
                    <a:pt x="274" y="652"/>
                  </a:lnTo>
                  <a:lnTo>
                    <a:pt x="264" y="647"/>
                  </a:lnTo>
                  <a:lnTo>
                    <a:pt x="255" y="641"/>
                  </a:lnTo>
                  <a:lnTo>
                    <a:pt x="248" y="633"/>
                  </a:lnTo>
                  <a:lnTo>
                    <a:pt x="243" y="626"/>
                  </a:lnTo>
                  <a:lnTo>
                    <a:pt x="239" y="616"/>
                  </a:lnTo>
                  <a:lnTo>
                    <a:pt x="237" y="606"/>
                  </a:lnTo>
                  <a:lnTo>
                    <a:pt x="237" y="582"/>
                  </a:lnTo>
                  <a:lnTo>
                    <a:pt x="242" y="555"/>
                  </a:lnTo>
                  <a:lnTo>
                    <a:pt x="250" y="524"/>
                  </a:lnTo>
                  <a:lnTo>
                    <a:pt x="328" y="279"/>
                  </a:lnTo>
                  <a:lnTo>
                    <a:pt x="340" y="241"/>
                  </a:lnTo>
                  <a:lnTo>
                    <a:pt x="352" y="210"/>
                  </a:lnTo>
                  <a:lnTo>
                    <a:pt x="364" y="188"/>
                  </a:lnTo>
                  <a:lnTo>
                    <a:pt x="378" y="171"/>
                  </a:lnTo>
                  <a:lnTo>
                    <a:pt x="396" y="159"/>
                  </a:lnTo>
                  <a:lnTo>
                    <a:pt x="418" y="152"/>
                  </a:lnTo>
                  <a:lnTo>
                    <a:pt x="446" y="149"/>
                  </a:lnTo>
                  <a:lnTo>
                    <a:pt x="479" y="148"/>
                  </a:lnTo>
                  <a:lnTo>
                    <a:pt x="503" y="148"/>
                  </a:lnTo>
                  <a:lnTo>
                    <a:pt x="546" y="150"/>
                  </a:lnTo>
                  <a:lnTo>
                    <a:pt x="578" y="156"/>
                  </a:lnTo>
                  <a:lnTo>
                    <a:pt x="590" y="160"/>
                  </a:lnTo>
                  <a:lnTo>
                    <a:pt x="600" y="167"/>
                  </a:lnTo>
                  <a:lnTo>
                    <a:pt x="608" y="173"/>
                  </a:lnTo>
                  <a:lnTo>
                    <a:pt x="613" y="182"/>
                  </a:lnTo>
                  <a:lnTo>
                    <a:pt x="616" y="191"/>
                  </a:lnTo>
                  <a:lnTo>
                    <a:pt x="619" y="203"/>
                  </a:lnTo>
                  <a:lnTo>
                    <a:pt x="618" y="229"/>
                  </a:lnTo>
                  <a:lnTo>
                    <a:pt x="611" y="261"/>
                  </a:lnTo>
                  <a:lnTo>
                    <a:pt x="601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50920" y="6075360"/>
              <a:ext cx="132696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040" y="6273720"/>
              <a:ext cx="1154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etter answers</a:t>
              </a:r>
              <a:endParaRPr b="0" lang="en-US" sz="13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53" name="title%20b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55" name="www.compaq" descr=""/>
          <p:cNvPicPr/>
          <p:nvPr/>
        </p:nvPicPr>
        <p:blipFill>
          <a:blip r:embed="rId4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857160" algn="ctr">
              <a:spcBef>
                <a:spcPts val="68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160ba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160ba1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ba1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160ba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b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920" y="2209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un Configurations on FC-AL</a:t>
            </a:r>
            <a:endParaRPr b="0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4932360" y="2570040"/>
            <a:ext cx="0" cy="121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0"/>
            <a:ext cx="651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630600" y="2379600"/>
            <a:ext cx="85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526080" y="230364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1704960" cy="1388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392720" y="2124000"/>
            <a:ext cx="1216080" cy="5763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b1b1b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4648320"/>
            <a:ext cx="29955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 active por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554280" y="2379600"/>
            <a:ext cx="83844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5001840" y="2684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5007600" y="31291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2092320" y="1784520"/>
            <a:ext cx="1487520" cy="1285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49568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76212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</a:t>
            </a:r>
            <a:r>
              <a:rPr b="1" lang="en-US" sz="32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E1EA-0418-4D48-8D3A-753941D66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98920" y="114336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222960" y="4191120"/>
            <a:ext cx="2921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4835520" y="28512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038400" y="266544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368360" y="2163600"/>
            <a:ext cx="1830600" cy="1473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7082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3882960" y="3809880"/>
            <a:ext cx="2286000" cy="15973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2379600"/>
            <a:ext cx="1714320" cy="614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3311280" y="22082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5250960" y="30160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609480"/>
            <a:ext cx="5361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3231720" y="327960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3935160" y="2994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5234760" y="3316320"/>
            <a:ext cx="1841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203720"/>
            <a:ext cx="37339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6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18A6-BD11-43E5-967E-C71A62BDB6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3600" y="4267080"/>
            <a:ext cx="3200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5276880" y="2928960"/>
            <a:ext cx="0" cy="1098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2881440" y="2830680"/>
            <a:ext cx="1515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75160" y="2913120"/>
            <a:ext cx="9360" cy="11271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1146240" y="2075040"/>
            <a:ext cx="1855800" cy="1512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3962520"/>
            <a:ext cx="2209680" cy="15238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4254480" y="2516040"/>
            <a:ext cx="1359000" cy="62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123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bf5e8"/>
                </a:solidFill>
                <a:latin typeface="Arial"/>
              </a:rPr>
              <a:t>P1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5409000" y="3505320"/>
            <a:ext cx="132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457520" y="3138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3239640" y="24271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0"/>
            <a:ext cx="695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Single Controller Dual-Port (Active,Active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1390680" y="207504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3732-DCCA-464B-9678-F6F6A261F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232880" y="1048320"/>
            <a:ext cx="268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1415880"/>
            <a:ext cx="70707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4267080"/>
            <a:ext cx="2895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4218120" y="293688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2965320" y="2817720"/>
            <a:ext cx="133848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124000"/>
            <a:ext cx="1830600" cy="14731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562640" y="289080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295960" y="2941560"/>
            <a:ext cx="0" cy="14302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5676840" y="2736720"/>
            <a:ext cx="0" cy="14306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962520"/>
            <a:ext cx="2286000" cy="1596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4064040" y="2532240"/>
            <a:ext cx="1714320" cy="61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3371040" y="352116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5261760" y="351936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673600" y="352260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4205520" y="35179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174480" y="2449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4514400" y="31766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0"/>
            <a:ext cx="672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762120"/>
            <a:ext cx="69962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Dual Controller 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1506600" y="2131920"/>
            <a:ext cx="14540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434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A2D7-6CC3-45EC-AFB1-70A2866FA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5029200"/>
            <a:ext cx="6019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2 Dual Redundant Controller Pairs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Transparent Failover Mode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1172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595600"/>
            <a:ext cx="0" cy="10922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3193920" y="2523960"/>
            <a:ext cx="1047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660920" y="2778120"/>
            <a:ext cx="0" cy="79848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6780240" y="2752560"/>
            <a:ext cx="0" cy="909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7953480" y="2244600"/>
            <a:ext cx="0" cy="145584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7180200" y="2608200"/>
            <a:ext cx="0" cy="981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5222880" y="2766960"/>
            <a:ext cx="159552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708520" y="2582640"/>
            <a:ext cx="149724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5734080" y="2414520"/>
            <a:ext cx="192096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21360" y="2219040"/>
            <a:ext cx="2806560" cy="126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7616880" y="2414520"/>
            <a:ext cx="0" cy="12733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1868400"/>
            <a:ext cx="1677960" cy="131148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4137120" y="2158920"/>
            <a:ext cx="174132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3787920" y="3505320"/>
            <a:ext cx="20952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505320"/>
            <a:ext cx="2097000" cy="14205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463200" y="3100320"/>
            <a:ext cx="86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 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4685400" y="309708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6049800" y="3105000"/>
            <a:ext cx="77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P1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217640" y="3100320"/>
            <a:ext cx="40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4308840" y="310212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5046840" y="309888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799680" y="3094200"/>
            <a:ext cx="38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7580160" y="3102120"/>
            <a:ext cx="9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bf5e8"/>
                </a:solidFill>
                <a:latin typeface="Arial"/>
              </a:rPr>
              <a:t>S  P2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130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546520" y="2770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0"/>
            <a:ext cx="657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762120"/>
            <a:ext cx="6767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Single Server / (2) Dual Controllers /Dual-Port (Active,Standby)</a:t>
            </a:r>
            <a:endParaRPr b="0" lang="en-US" sz="2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1623960" y="1836720"/>
            <a:ext cx="14558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4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56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8D68-3E98-4CD4-95AA-34242A9B8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862600" y="2284560"/>
            <a:ext cx="1062000" cy="93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428148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27240" y="2247840"/>
            <a:ext cx="1463760" cy="7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6788160" y="1647720"/>
            <a:ext cx="1581120" cy="1409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203800" y="2509920"/>
            <a:ext cx="3240" cy="95076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1225440" y="1633680"/>
            <a:ext cx="1530360" cy="137160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3429000"/>
            <a:ext cx="1712880" cy="13809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C Single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4808520" y="2027160"/>
            <a:ext cx="1185840" cy="51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419112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ngle 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 active port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 Failov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2749320" y="17859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3408120" y="255420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968800" y="191448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5230440" y="258444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2747520" y="299556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190480" y="3014640"/>
            <a:ext cx="155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0"/>
            <a:ext cx="674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609480"/>
            <a:ext cx="5059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Single Controller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114800"/>
            <a:ext cx="3767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DFC-7F75-4999-ADC8-DD32716BF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a4ff"/>
            </a:gs>
            <a:gs pos="100000">
              <a:srgbClr val="004b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824040" y="1523880"/>
            <a:ext cx="7565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f2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5789520" y="2049480"/>
            <a:ext cx="88272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2327400"/>
            <a:ext cx="3240" cy="885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68600" y="2049480"/>
            <a:ext cx="1766880" cy="32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6659640" y="1547640"/>
            <a:ext cx="1414440" cy="153684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eaeaea"/>
              </a:gs>
              <a:gs pos="100000">
                <a:srgbClr val="9e9e9e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86280" y="2203560"/>
            <a:ext cx="7920" cy="9968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965160" y="1494000"/>
            <a:ext cx="1413000" cy="15732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n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lari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5151600" y="2327400"/>
            <a:ext cx="2880" cy="10620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033800" y="2189160"/>
            <a:ext cx="3240" cy="123840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3200400"/>
            <a:ext cx="1766880" cy="138276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8100000"/>
          </a:gradFill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SG80 FC Dual Controll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611600" y="1784520"/>
            <a:ext cx="132552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3139920" y="1784520"/>
            <a:ext cx="1325880" cy="52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dcdc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ub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5859000" y="16207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2458800" y="159876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4057200" y="2387520"/>
            <a:ext cx="83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f2b"/>
                </a:solidFill>
                <a:latin typeface="Arial"/>
              </a:rPr>
              <a:t>500m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25462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1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5149800" y="2587680"/>
            <a:ext cx="1428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Standb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f4ea"/>
                </a:solidFill>
                <a:latin typeface="Arial"/>
              </a:rPr>
              <a:t>P2 Activ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0"/>
            <a:ext cx="659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un Solaris Configuration FC-AL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685800"/>
            <a:ext cx="4738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8f2b"/>
                </a:solidFill>
                <a:latin typeface="Times New Roman"/>
              </a:rPr>
              <a:t>Dual Servers / Dual Controllers</a:t>
            </a:r>
            <a:r>
              <a:rPr b="1" lang="en-US" sz="3100" spc="-1" strike="noStrike">
                <a:solidFill>
                  <a:srgbClr val="ff8f2b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4648320"/>
            <a:ext cx="3767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r Solaris 2.5.1 and 2.6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2 LUNS (Default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28 LUNS (Maximum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43434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ual Redundant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roller,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ilover Mod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EC6F-A83D-4883-9751-BB7A5A703C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ww.compaq" descr=""/>
          <p:cNvPicPr/>
          <p:nvPr/>
        </p:nvPicPr>
        <p:blipFill>
          <a:blip r:embed="rId2"/>
          <a:srcRect l="69504" t="87546" r="2953" b="6545"/>
          <a:stretch/>
        </p:blipFill>
        <p:spPr>
          <a:xfrm>
            <a:off x="5867280" y="5972040"/>
            <a:ext cx="297180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compaq%20better%20answers" descr=""/>
          <p:cNvPicPr/>
          <p:nvPr/>
        </p:nvPicPr>
        <p:blipFill>
          <a:blip r:embed="rId3"/>
          <a:stretch/>
        </p:blipFill>
        <p:spPr>
          <a:xfrm>
            <a:off x="3251160" y="3124080"/>
            <a:ext cx="2692440" cy="6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nam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B79C-1DD0-4DD9-B4BD-F1A76FC693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6T19:52:29Z</dcterms:created>
  <dc:creator>Jay C. Redford</dc:creator>
  <dc:description/>
  <dc:language>en-US</dc:language>
  <cp:lastModifiedBy>Jay C. Redford</cp:lastModifiedBy>
  <cp:lastPrinted>1998-12-10T22:46:21Z</cp:lastPrinted>
  <dcterms:modified xsi:type="dcterms:W3CDTF">1999-06-06T20:43:56Z</dcterms:modified>
  <cp:revision>1</cp:revision>
  <dc:subject/>
  <dc:title>Sun Configurations on FC-AL</dc:title>
</cp:coreProperties>
</file>