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e2b6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250920" y="271440"/>
            <a:ext cx="1720800" cy="6292800"/>
            <a:chOff x="250920" y="271440"/>
            <a:chExt cx="1720800" cy="6292800"/>
          </a:xfrm>
        </p:grpSpPr>
        <p:sp>
          <p:nvSpPr>
            <p:cNvPr id="2" name=""/>
            <p:cNvSpPr/>
            <p:nvPr/>
          </p:nvSpPr>
          <p:spPr>
            <a:xfrm>
              <a:off x="620640" y="271440"/>
              <a:ext cx="918000" cy="956160"/>
            </a:xfrm>
            <a:custGeom>
              <a:avLst/>
              <a:gdLst/>
              <a:ahLst/>
              <a:rect l="0" t="0" r="r" b="b"/>
              <a:pathLst>
                <a:path w="2550" h="2656">
                  <a:moveTo>
                    <a:pt x="1927" y="1913"/>
                  </a:moveTo>
                  <a:lnTo>
                    <a:pt x="1976" y="1789"/>
                  </a:lnTo>
                  <a:lnTo>
                    <a:pt x="2029" y="1652"/>
                  </a:lnTo>
                  <a:lnTo>
                    <a:pt x="2237" y="950"/>
                  </a:lnTo>
                  <a:lnTo>
                    <a:pt x="2272" y="818"/>
                  </a:lnTo>
                  <a:lnTo>
                    <a:pt x="2290" y="703"/>
                  </a:lnTo>
                  <a:lnTo>
                    <a:pt x="2321" y="600"/>
                  </a:lnTo>
                  <a:lnTo>
                    <a:pt x="2321" y="499"/>
                  </a:lnTo>
                  <a:lnTo>
                    <a:pt x="2321" y="441"/>
                  </a:lnTo>
                  <a:lnTo>
                    <a:pt x="2307" y="384"/>
                  </a:lnTo>
                  <a:lnTo>
                    <a:pt x="2290" y="335"/>
                  </a:lnTo>
                  <a:lnTo>
                    <a:pt x="2272" y="287"/>
                  </a:lnTo>
                  <a:lnTo>
                    <a:pt x="2250" y="238"/>
                  </a:lnTo>
                  <a:lnTo>
                    <a:pt x="2215" y="198"/>
                  </a:lnTo>
                  <a:lnTo>
                    <a:pt x="2184" y="159"/>
                  </a:lnTo>
                  <a:lnTo>
                    <a:pt x="2135" y="128"/>
                  </a:lnTo>
                  <a:lnTo>
                    <a:pt x="2086" y="97"/>
                  </a:lnTo>
                  <a:lnTo>
                    <a:pt x="2029" y="70"/>
                  </a:lnTo>
                  <a:lnTo>
                    <a:pt x="1954" y="48"/>
                  </a:lnTo>
                  <a:lnTo>
                    <a:pt x="1887" y="35"/>
                  </a:lnTo>
                  <a:lnTo>
                    <a:pt x="1803" y="22"/>
                  </a:lnTo>
                  <a:lnTo>
                    <a:pt x="1714" y="8"/>
                  </a:lnTo>
                  <a:lnTo>
                    <a:pt x="1511" y="0"/>
                  </a:lnTo>
                  <a:lnTo>
                    <a:pt x="1229" y="0"/>
                  </a:lnTo>
                  <a:lnTo>
                    <a:pt x="1034" y="4"/>
                  </a:lnTo>
                  <a:lnTo>
                    <a:pt x="880" y="22"/>
                  </a:lnTo>
                  <a:lnTo>
                    <a:pt x="804" y="30"/>
                  </a:lnTo>
                  <a:lnTo>
                    <a:pt x="743" y="48"/>
                  </a:lnTo>
                  <a:lnTo>
                    <a:pt x="681" y="75"/>
                  </a:lnTo>
                  <a:lnTo>
                    <a:pt x="618" y="106"/>
                  </a:lnTo>
                  <a:lnTo>
                    <a:pt x="561" y="145"/>
                  </a:lnTo>
                  <a:lnTo>
                    <a:pt x="516" y="194"/>
                  </a:lnTo>
                  <a:lnTo>
                    <a:pt x="468" y="251"/>
                  </a:lnTo>
                  <a:lnTo>
                    <a:pt x="419" y="313"/>
                  </a:lnTo>
                  <a:lnTo>
                    <a:pt x="375" y="393"/>
                  </a:lnTo>
                  <a:lnTo>
                    <a:pt x="335" y="485"/>
                  </a:lnTo>
                  <a:lnTo>
                    <a:pt x="295" y="583"/>
                  </a:lnTo>
                  <a:lnTo>
                    <a:pt x="256" y="698"/>
                  </a:lnTo>
                  <a:lnTo>
                    <a:pt x="75" y="1317"/>
                  </a:lnTo>
                  <a:lnTo>
                    <a:pt x="35" y="1476"/>
                  </a:lnTo>
                  <a:lnTo>
                    <a:pt x="13" y="1617"/>
                  </a:lnTo>
                  <a:lnTo>
                    <a:pt x="0" y="1741"/>
                  </a:lnTo>
                  <a:lnTo>
                    <a:pt x="8" y="1847"/>
                  </a:lnTo>
                  <a:lnTo>
                    <a:pt x="22" y="1944"/>
                  </a:lnTo>
                  <a:lnTo>
                    <a:pt x="48" y="2029"/>
                  </a:lnTo>
                  <a:lnTo>
                    <a:pt x="83" y="2100"/>
                  </a:lnTo>
                  <a:lnTo>
                    <a:pt x="132" y="2157"/>
                  </a:lnTo>
                  <a:lnTo>
                    <a:pt x="176" y="2201"/>
                  </a:lnTo>
                  <a:lnTo>
                    <a:pt x="238" y="2241"/>
                  </a:lnTo>
                  <a:lnTo>
                    <a:pt x="309" y="2267"/>
                  </a:lnTo>
                  <a:lnTo>
                    <a:pt x="375" y="2294"/>
                  </a:lnTo>
                  <a:lnTo>
                    <a:pt x="454" y="2307"/>
                  </a:lnTo>
                  <a:lnTo>
                    <a:pt x="530" y="2316"/>
                  </a:lnTo>
                  <a:lnTo>
                    <a:pt x="681" y="2320"/>
                  </a:lnTo>
                  <a:lnTo>
                    <a:pt x="791" y="2320"/>
                  </a:lnTo>
                  <a:lnTo>
                    <a:pt x="822" y="2276"/>
                  </a:lnTo>
                  <a:lnTo>
                    <a:pt x="866" y="2237"/>
                  </a:lnTo>
                  <a:lnTo>
                    <a:pt x="946" y="2157"/>
                  </a:lnTo>
                  <a:lnTo>
                    <a:pt x="1052" y="2082"/>
                  </a:lnTo>
                  <a:lnTo>
                    <a:pt x="1171" y="2029"/>
                  </a:lnTo>
                  <a:lnTo>
                    <a:pt x="1295" y="1975"/>
                  </a:lnTo>
                  <a:lnTo>
                    <a:pt x="1441" y="1940"/>
                  </a:lnTo>
                  <a:lnTo>
                    <a:pt x="1600" y="1918"/>
                  </a:lnTo>
                  <a:lnTo>
                    <a:pt x="1750" y="1913"/>
                  </a:lnTo>
                  <a:lnTo>
                    <a:pt x="1816" y="1913"/>
                  </a:lnTo>
                  <a:lnTo>
                    <a:pt x="1723" y="1918"/>
                  </a:lnTo>
                  <a:lnTo>
                    <a:pt x="1631" y="1935"/>
                  </a:lnTo>
                  <a:lnTo>
                    <a:pt x="1542" y="1953"/>
                  </a:lnTo>
                  <a:lnTo>
                    <a:pt x="1463" y="1975"/>
                  </a:lnTo>
                  <a:lnTo>
                    <a:pt x="1379" y="2016"/>
                  </a:lnTo>
                  <a:lnTo>
                    <a:pt x="1304" y="2055"/>
                  </a:lnTo>
                  <a:lnTo>
                    <a:pt x="1229" y="2100"/>
                  </a:lnTo>
                  <a:lnTo>
                    <a:pt x="1167" y="2144"/>
                  </a:lnTo>
                  <a:lnTo>
                    <a:pt x="1105" y="2197"/>
                  </a:lnTo>
                  <a:lnTo>
                    <a:pt x="1052" y="2254"/>
                  </a:lnTo>
                  <a:lnTo>
                    <a:pt x="1003" y="2312"/>
                  </a:lnTo>
                  <a:lnTo>
                    <a:pt x="959" y="2369"/>
                  </a:lnTo>
                  <a:lnTo>
                    <a:pt x="928" y="2444"/>
                  </a:lnTo>
                  <a:lnTo>
                    <a:pt x="897" y="2515"/>
                  </a:lnTo>
                  <a:lnTo>
                    <a:pt x="880" y="2577"/>
                  </a:lnTo>
                  <a:lnTo>
                    <a:pt x="866" y="2656"/>
                  </a:lnTo>
                  <a:lnTo>
                    <a:pt x="919" y="2585"/>
                  </a:lnTo>
                  <a:lnTo>
                    <a:pt x="990" y="2519"/>
                  </a:lnTo>
                  <a:lnTo>
                    <a:pt x="1065" y="2462"/>
                  </a:lnTo>
                  <a:lnTo>
                    <a:pt x="1145" y="2413"/>
                  </a:lnTo>
                  <a:lnTo>
                    <a:pt x="1242" y="2378"/>
                  </a:lnTo>
                  <a:lnTo>
                    <a:pt x="1343" y="2351"/>
                  </a:lnTo>
                  <a:lnTo>
                    <a:pt x="1449" y="2329"/>
                  </a:lnTo>
                  <a:lnTo>
                    <a:pt x="1555" y="2320"/>
                  </a:lnTo>
                  <a:lnTo>
                    <a:pt x="2435" y="2320"/>
                  </a:lnTo>
                  <a:lnTo>
                    <a:pt x="2550" y="1913"/>
                  </a:lnTo>
                  <a:lnTo>
                    <a:pt x="1927" y="19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250920" y="6075360"/>
              <a:ext cx="1352520" cy="2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 txBox="1"/>
            <p:nvPr/>
          </p:nvSpPr>
          <p:spPr>
            <a:xfrm>
              <a:off x="812880" y="6273720"/>
              <a:ext cx="11588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tter answer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69560" cy="68835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117440" y="1003320"/>
            <a:ext cx="6883560" cy="333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5867280" y="5943600"/>
            <a:ext cx="2997360" cy="5014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e2b6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2316240" cy="6858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50920" y="271440"/>
            <a:ext cx="1720800" cy="6292800"/>
            <a:chOff x="250920" y="271440"/>
            <a:chExt cx="1720800" cy="6292800"/>
          </a:xfrm>
        </p:grpSpPr>
        <p:sp>
          <p:nvSpPr>
            <p:cNvPr id="49" name=""/>
            <p:cNvSpPr/>
            <p:nvPr/>
          </p:nvSpPr>
          <p:spPr>
            <a:xfrm>
              <a:off x="620640" y="271440"/>
              <a:ext cx="918000" cy="956160"/>
            </a:xfrm>
            <a:custGeom>
              <a:avLst/>
              <a:gdLst/>
              <a:ahLst/>
              <a:rect l="0" t="0" r="r" b="b"/>
              <a:pathLst>
                <a:path w="2550" h="2656">
                  <a:moveTo>
                    <a:pt x="1927" y="1913"/>
                  </a:moveTo>
                  <a:lnTo>
                    <a:pt x="1976" y="1789"/>
                  </a:lnTo>
                  <a:lnTo>
                    <a:pt x="2029" y="1652"/>
                  </a:lnTo>
                  <a:lnTo>
                    <a:pt x="2237" y="950"/>
                  </a:lnTo>
                  <a:lnTo>
                    <a:pt x="2272" y="818"/>
                  </a:lnTo>
                  <a:lnTo>
                    <a:pt x="2290" y="703"/>
                  </a:lnTo>
                  <a:lnTo>
                    <a:pt x="2321" y="600"/>
                  </a:lnTo>
                  <a:lnTo>
                    <a:pt x="2321" y="499"/>
                  </a:lnTo>
                  <a:lnTo>
                    <a:pt x="2321" y="441"/>
                  </a:lnTo>
                  <a:lnTo>
                    <a:pt x="2307" y="384"/>
                  </a:lnTo>
                  <a:lnTo>
                    <a:pt x="2290" y="335"/>
                  </a:lnTo>
                  <a:lnTo>
                    <a:pt x="2272" y="287"/>
                  </a:lnTo>
                  <a:lnTo>
                    <a:pt x="2250" y="238"/>
                  </a:lnTo>
                  <a:lnTo>
                    <a:pt x="2215" y="198"/>
                  </a:lnTo>
                  <a:lnTo>
                    <a:pt x="2184" y="159"/>
                  </a:lnTo>
                  <a:lnTo>
                    <a:pt x="2135" y="128"/>
                  </a:lnTo>
                  <a:lnTo>
                    <a:pt x="2086" y="97"/>
                  </a:lnTo>
                  <a:lnTo>
                    <a:pt x="2029" y="70"/>
                  </a:lnTo>
                  <a:lnTo>
                    <a:pt x="1954" y="48"/>
                  </a:lnTo>
                  <a:lnTo>
                    <a:pt x="1887" y="35"/>
                  </a:lnTo>
                  <a:lnTo>
                    <a:pt x="1803" y="22"/>
                  </a:lnTo>
                  <a:lnTo>
                    <a:pt x="1714" y="8"/>
                  </a:lnTo>
                  <a:lnTo>
                    <a:pt x="1511" y="0"/>
                  </a:lnTo>
                  <a:lnTo>
                    <a:pt x="1229" y="0"/>
                  </a:lnTo>
                  <a:lnTo>
                    <a:pt x="1034" y="4"/>
                  </a:lnTo>
                  <a:lnTo>
                    <a:pt x="880" y="22"/>
                  </a:lnTo>
                  <a:lnTo>
                    <a:pt x="804" y="30"/>
                  </a:lnTo>
                  <a:lnTo>
                    <a:pt x="743" y="48"/>
                  </a:lnTo>
                  <a:lnTo>
                    <a:pt x="681" y="75"/>
                  </a:lnTo>
                  <a:lnTo>
                    <a:pt x="618" y="106"/>
                  </a:lnTo>
                  <a:lnTo>
                    <a:pt x="561" y="145"/>
                  </a:lnTo>
                  <a:lnTo>
                    <a:pt x="516" y="194"/>
                  </a:lnTo>
                  <a:lnTo>
                    <a:pt x="468" y="251"/>
                  </a:lnTo>
                  <a:lnTo>
                    <a:pt x="419" y="313"/>
                  </a:lnTo>
                  <a:lnTo>
                    <a:pt x="375" y="393"/>
                  </a:lnTo>
                  <a:lnTo>
                    <a:pt x="335" y="485"/>
                  </a:lnTo>
                  <a:lnTo>
                    <a:pt x="295" y="583"/>
                  </a:lnTo>
                  <a:lnTo>
                    <a:pt x="256" y="698"/>
                  </a:lnTo>
                  <a:lnTo>
                    <a:pt x="75" y="1317"/>
                  </a:lnTo>
                  <a:lnTo>
                    <a:pt x="35" y="1476"/>
                  </a:lnTo>
                  <a:lnTo>
                    <a:pt x="13" y="1617"/>
                  </a:lnTo>
                  <a:lnTo>
                    <a:pt x="0" y="1741"/>
                  </a:lnTo>
                  <a:lnTo>
                    <a:pt x="8" y="1847"/>
                  </a:lnTo>
                  <a:lnTo>
                    <a:pt x="22" y="1944"/>
                  </a:lnTo>
                  <a:lnTo>
                    <a:pt x="48" y="2029"/>
                  </a:lnTo>
                  <a:lnTo>
                    <a:pt x="83" y="2100"/>
                  </a:lnTo>
                  <a:lnTo>
                    <a:pt x="132" y="2157"/>
                  </a:lnTo>
                  <a:lnTo>
                    <a:pt x="176" y="2201"/>
                  </a:lnTo>
                  <a:lnTo>
                    <a:pt x="238" y="2241"/>
                  </a:lnTo>
                  <a:lnTo>
                    <a:pt x="309" y="2267"/>
                  </a:lnTo>
                  <a:lnTo>
                    <a:pt x="375" y="2294"/>
                  </a:lnTo>
                  <a:lnTo>
                    <a:pt x="454" y="2307"/>
                  </a:lnTo>
                  <a:lnTo>
                    <a:pt x="530" y="2316"/>
                  </a:lnTo>
                  <a:lnTo>
                    <a:pt x="681" y="2320"/>
                  </a:lnTo>
                  <a:lnTo>
                    <a:pt x="791" y="2320"/>
                  </a:lnTo>
                  <a:lnTo>
                    <a:pt x="822" y="2276"/>
                  </a:lnTo>
                  <a:lnTo>
                    <a:pt x="866" y="2237"/>
                  </a:lnTo>
                  <a:lnTo>
                    <a:pt x="946" y="2157"/>
                  </a:lnTo>
                  <a:lnTo>
                    <a:pt x="1052" y="2082"/>
                  </a:lnTo>
                  <a:lnTo>
                    <a:pt x="1171" y="2029"/>
                  </a:lnTo>
                  <a:lnTo>
                    <a:pt x="1295" y="1975"/>
                  </a:lnTo>
                  <a:lnTo>
                    <a:pt x="1441" y="1940"/>
                  </a:lnTo>
                  <a:lnTo>
                    <a:pt x="1600" y="1918"/>
                  </a:lnTo>
                  <a:lnTo>
                    <a:pt x="1750" y="1913"/>
                  </a:lnTo>
                  <a:lnTo>
                    <a:pt x="1816" y="1913"/>
                  </a:lnTo>
                  <a:lnTo>
                    <a:pt x="1723" y="1918"/>
                  </a:lnTo>
                  <a:lnTo>
                    <a:pt x="1631" y="1935"/>
                  </a:lnTo>
                  <a:lnTo>
                    <a:pt x="1542" y="1953"/>
                  </a:lnTo>
                  <a:lnTo>
                    <a:pt x="1463" y="1975"/>
                  </a:lnTo>
                  <a:lnTo>
                    <a:pt x="1379" y="2016"/>
                  </a:lnTo>
                  <a:lnTo>
                    <a:pt x="1304" y="2055"/>
                  </a:lnTo>
                  <a:lnTo>
                    <a:pt x="1229" y="2100"/>
                  </a:lnTo>
                  <a:lnTo>
                    <a:pt x="1167" y="2144"/>
                  </a:lnTo>
                  <a:lnTo>
                    <a:pt x="1105" y="2197"/>
                  </a:lnTo>
                  <a:lnTo>
                    <a:pt x="1052" y="2254"/>
                  </a:lnTo>
                  <a:lnTo>
                    <a:pt x="1003" y="2312"/>
                  </a:lnTo>
                  <a:lnTo>
                    <a:pt x="959" y="2369"/>
                  </a:lnTo>
                  <a:lnTo>
                    <a:pt x="928" y="2444"/>
                  </a:lnTo>
                  <a:lnTo>
                    <a:pt x="897" y="2515"/>
                  </a:lnTo>
                  <a:lnTo>
                    <a:pt x="880" y="2577"/>
                  </a:lnTo>
                  <a:lnTo>
                    <a:pt x="866" y="2656"/>
                  </a:lnTo>
                  <a:lnTo>
                    <a:pt x="919" y="2585"/>
                  </a:lnTo>
                  <a:lnTo>
                    <a:pt x="990" y="2519"/>
                  </a:lnTo>
                  <a:lnTo>
                    <a:pt x="1065" y="2462"/>
                  </a:lnTo>
                  <a:lnTo>
                    <a:pt x="1145" y="2413"/>
                  </a:lnTo>
                  <a:lnTo>
                    <a:pt x="1242" y="2378"/>
                  </a:lnTo>
                  <a:lnTo>
                    <a:pt x="1343" y="2351"/>
                  </a:lnTo>
                  <a:lnTo>
                    <a:pt x="1449" y="2329"/>
                  </a:lnTo>
                  <a:lnTo>
                    <a:pt x="1555" y="2320"/>
                  </a:lnTo>
                  <a:lnTo>
                    <a:pt x="2435" y="2320"/>
                  </a:lnTo>
                  <a:lnTo>
                    <a:pt x="2550" y="1913"/>
                  </a:lnTo>
                  <a:lnTo>
                    <a:pt x="1927" y="19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50920" y="6075360"/>
              <a:ext cx="1352520" cy="2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 txBox="1"/>
            <p:nvPr/>
          </p:nvSpPr>
          <p:spPr>
            <a:xfrm>
              <a:off x="812880" y="6273720"/>
              <a:ext cx="11588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tter answer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69560" cy="6883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867280" y="5972040"/>
            <a:ext cx="2997360" cy="501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590920" y="220968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Tru64 Unix Configurations on FC-S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1a4ff"/>
              </a:gs>
              <a:gs pos="100000">
                <a:srgbClr val="00517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363920" y="3860640"/>
            <a:ext cx="0" cy="1138320"/>
          </a:xfrm>
          <a:prstGeom prst="line">
            <a:avLst/>
          </a:prstGeom>
          <a:ln w="381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02160" y="2719440"/>
            <a:ext cx="0" cy="566640"/>
          </a:xfrm>
          <a:prstGeom prst="line">
            <a:avLst/>
          </a:prstGeom>
          <a:ln w="381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0"/>
            <a:ext cx="754380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lang="en-US" sz="3600" spc="-1" strike="noStrike">
                <a:solidFill>
                  <a:srgbClr val="ff8f2b"/>
                </a:solidFill>
                <a:latin typeface="Times New Roman"/>
                <a:ea typeface="Times New Roman"/>
              </a:rPr>
              <a:t>Tru64 Unix Configuration FC-Switch</a:t>
            </a:r>
            <a:r>
              <a:rPr b="1" lang="en-US" sz="3900" spc="-1" strike="noStrike">
                <a:solidFill>
                  <a:srgbClr val="ff8f2b"/>
                </a:solidFill>
                <a:latin typeface="Arial"/>
                <a:ea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52480" y="685800"/>
            <a:ext cx="51814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  <a:ea typeface="Times New Roman"/>
              </a:rPr>
              <a:t>Single Server / Single Controll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52760" y="4989600"/>
            <a:ext cx="2030400" cy="11890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52760" y="4989600"/>
            <a:ext cx="203040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HSG80 FC Single 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4648320"/>
            <a:ext cx="243828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Up to 8 LU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Up to 72 D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Up to 500 meters</a:t>
            </a:r>
            <a:br>
              <a:rPr sz="2000"/>
            </a:b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  per segment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55840" y="2857680"/>
            <a:ext cx="83196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  <a:ea typeface="Arial"/>
              </a:rPr>
              <a:t>50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660840" y="1488960"/>
            <a:ext cx="1755720" cy="1236600"/>
            <a:chOff x="3660840" y="1488960"/>
            <a:chExt cx="1755720" cy="1236600"/>
          </a:xfrm>
        </p:grpSpPr>
        <p:sp>
          <p:nvSpPr>
            <p:cNvPr id="141" name=""/>
            <p:cNvSpPr/>
            <p:nvPr/>
          </p:nvSpPr>
          <p:spPr>
            <a:xfrm>
              <a:off x="3660840" y="1488960"/>
              <a:ext cx="1755720" cy="123660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3660840" y="1488960"/>
              <a:ext cx="1755720" cy="12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3911760" y="1720800"/>
              <a:ext cx="1238400" cy="88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004fec"/>
                  </a:solidFill>
                  <a:latin typeface="Arial"/>
                  <a:ea typeface="Arial"/>
                </a:rPr>
                <a:t>Tru64</a:t>
              </a:r>
              <a:br>
                <a:rPr sz="2600"/>
              </a:br>
              <a:r>
                <a:rPr b="1" lang="en-US" sz="2600" spc="-1" strike="noStrike">
                  <a:solidFill>
                    <a:srgbClr val="004fec"/>
                  </a:solidFill>
                  <a:latin typeface="Arial"/>
                  <a:ea typeface="Arial"/>
                </a:rPr>
                <a:t>Serve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 txBox="1"/>
          <p:nvPr/>
        </p:nvSpPr>
        <p:spPr>
          <a:xfrm>
            <a:off x="3867120" y="3273480"/>
            <a:ext cx="1341360" cy="6681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d2d2d2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8120" y="4071960"/>
            <a:ext cx="9446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63920" y="4071960"/>
            <a:ext cx="49212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403960" y="4071960"/>
            <a:ext cx="118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Stan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943600" y="4800600"/>
            <a:ext cx="296856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Symbol"/>
              <a:buChar char=""/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Single Controll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Symbol"/>
              <a:buChar char=" "/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One Active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Symbol"/>
              <a:buChar char=" "/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Transparent Fail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55840" y="4500720"/>
            <a:ext cx="83196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  <a:ea typeface="Arial"/>
              </a:rPr>
              <a:t>50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87800" y="4071960"/>
            <a:ext cx="49212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41840" y="3933720"/>
            <a:ext cx="0" cy="1067040"/>
          </a:xfrm>
          <a:prstGeom prst="line">
            <a:avLst/>
          </a:prstGeom>
          <a:ln w="38160">
            <a:solidFill>
              <a:srgbClr val="fb6b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1a4ff"/>
              </a:gs>
              <a:gs pos="100000">
                <a:srgbClr val="00517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363920" y="3860640"/>
            <a:ext cx="0" cy="1138320"/>
          </a:xfrm>
          <a:prstGeom prst="line">
            <a:avLst/>
          </a:prstGeom>
          <a:ln w="381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02160" y="2719440"/>
            <a:ext cx="0" cy="566640"/>
          </a:xfrm>
          <a:prstGeom prst="line">
            <a:avLst/>
          </a:prstGeom>
          <a:ln w="381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752480" y="685800"/>
            <a:ext cx="6843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  <a:ea typeface="Times New Roman"/>
              </a:rPr>
              <a:t>Single Server / Single Controller / Dual 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562720" y="1857240"/>
            <a:ext cx="10666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  <a:ea typeface="Arial"/>
              </a:rPr>
              <a:t>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41840" y="3933720"/>
            <a:ext cx="0" cy="1067040"/>
          </a:xfrm>
          <a:prstGeom prst="line">
            <a:avLst/>
          </a:prstGeom>
          <a:ln w="381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52760" y="4989600"/>
            <a:ext cx="2030400" cy="14112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452760" y="4989600"/>
            <a:ext cx="2030400" cy="14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HSG80 FC Single 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09480" y="4495680"/>
            <a:ext cx="248292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Up to 16 LU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Up to 72 D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Up to 500 meters</a:t>
            </a:r>
            <a:br>
              <a:rPr sz="2000"/>
            </a:b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  per segment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117960" y="2857680"/>
            <a:ext cx="83016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  <a:ea typeface="Arial"/>
              </a:rPr>
              <a:t>50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056200" y="4000680"/>
            <a:ext cx="49212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660840" y="1488960"/>
            <a:ext cx="1755720" cy="1236600"/>
            <a:chOff x="3660840" y="1488960"/>
            <a:chExt cx="1755720" cy="1236600"/>
          </a:xfrm>
        </p:grpSpPr>
        <p:sp>
          <p:nvSpPr>
            <p:cNvPr id="164" name=""/>
            <p:cNvSpPr/>
            <p:nvPr/>
          </p:nvSpPr>
          <p:spPr>
            <a:xfrm>
              <a:off x="3660840" y="1488960"/>
              <a:ext cx="1755720" cy="123660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3660840" y="1488960"/>
              <a:ext cx="1755720" cy="12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3911760" y="1720800"/>
              <a:ext cx="1238400" cy="88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004fec"/>
                  </a:solidFill>
                  <a:latin typeface="Arial"/>
                  <a:ea typeface="Arial"/>
                </a:rPr>
                <a:t>Tru64</a:t>
              </a:r>
              <a:br>
                <a:rPr sz="2600"/>
              </a:br>
              <a:r>
                <a:rPr b="1" lang="en-US" sz="2600" spc="-1" strike="noStrike">
                  <a:solidFill>
                    <a:srgbClr val="004fec"/>
                  </a:solidFill>
                  <a:latin typeface="Arial"/>
                  <a:ea typeface="Arial"/>
                </a:rPr>
                <a:t>Serve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 txBox="1"/>
          <p:nvPr/>
        </p:nvSpPr>
        <p:spPr>
          <a:xfrm>
            <a:off x="3867120" y="3273480"/>
            <a:ext cx="1341360" cy="6681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d2d2d2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117960" y="4000680"/>
            <a:ext cx="9446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631960" y="4000680"/>
            <a:ext cx="49212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172200" y="4572000"/>
            <a:ext cx="24606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Symbol"/>
              <a:buChar char=""/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Single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Symbol"/>
              <a:buChar char=" "/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Dual Active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Symbol"/>
              <a:buChar char=" "/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No Failov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117960" y="4500720"/>
            <a:ext cx="83016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  <a:ea typeface="Arial"/>
              </a:rPr>
              <a:t>50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541840" y="4000680"/>
            <a:ext cx="9446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600200" y="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lang="en-US" sz="3600" spc="-1" strike="noStrike">
                <a:solidFill>
                  <a:srgbClr val="ff8f2b"/>
                </a:solidFill>
                <a:latin typeface="Times New Roman"/>
                <a:ea typeface="Times New Roman"/>
              </a:rPr>
              <a:t>Tru64 Unix Configuration FC-Switch</a:t>
            </a:r>
            <a:r>
              <a:rPr b="1" lang="en-US" sz="3200" spc="-1" strike="noStrike">
                <a:solidFill>
                  <a:srgbClr val="ff8f2b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1a4ff"/>
              </a:gs>
              <a:gs pos="100000">
                <a:srgbClr val="00517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49920" y="3862440"/>
            <a:ext cx="0" cy="1138320"/>
          </a:xfrm>
          <a:prstGeom prst="line">
            <a:avLst/>
          </a:prstGeom>
          <a:ln w="38160">
            <a:solidFill>
              <a:srgbClr val="fb6b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56200" y="3790800"/>
            <a:ext cx="0" cy="1281240"/>
          </a:xfrm>
          <a:prstGeom prst="line">
            <a:avLst/>
          </a:prstGeom>
          <a:ln w="38160">
            <a:solidFill>
              <a:srgbClr val="fb6b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363920" y="3860640"/>
            <a:ext cx="0" cy="1138320"/>
          </a:xfrm>
          <a:prstGeom prst="line">
            <a:avLst/>
          </a:prstGeom>
          <a:ln w="381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02160" y="2719440"/>
            <a:ext cx="0" cy="566640"/>
          </a:xfrm>
          <a:prstGeom prst="line">
            <a:avLst/>
          </a:prstGeom>
          <a:ln w="381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752480" y="685800"/>
            <a:ext cx="56325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  <a:ea typeface="Times New Roman"/>
              </a:rPr>
              <a:t>Single Server / Dual Controllers</a:t>
            </a:r>
            <a:r>
              <a:rPr b="1" lang="en-US" sz="2900" spc="-1" strike="noStrike">
                <a:solidFill>
                  <a:srgbClr val="ff8f2b"/>
                </a:solidFill>
                <a:latin typeface="Arial"/>
                <a:ea typeface="Arial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562720" y="1857240"/>
            <a:ext cx="10666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  <a:ea typeface="Arial"/>
              </a:rPr>
              <a:t>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41840" y="3933720"/>
            <a:ext cx="0" cy="1067040"/>
          </a:xfrm>
          <a:prstGeom prst="line">
            <a:avLst/>
          </a:prstGeom>
          <a:ln w="381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52760" y="4989600"/>
            <a:ext cx="2030400" cy="14112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452760" y="4989600"/>
            <a:ext cx="2030400" cy="14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HSG80 FC Dual Control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4648320"/>
            <a:ext cx="248292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Up to 16 LU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Up to 72 D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Up to 500 meters</a:t>
            </a:r>
            <a:br>
              <a:rPr sz="2000"/>
            </a:b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  per segment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710240" y="2786040"/>
            <a:ext cx="83196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  <a:ea typeface="Arial"/>
              </a:rPr>
              <a:t>50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264280" y="4286160"/>
            <a:ext cx="49212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660840" y="1488960"/>
            <a:ext cx="1755720" cy="1236600"/>
            <a:chOff x="3660840" y="1488960"/>
            <a:chExt cx="1755720" cy="1236600"/>
          </a:xfrm>
        </p:grpSpPr>
        <p:sp>
          <p:nvSpPr>
            <p:cNvPr id="188" name=""/>
            <p:cNvSpPr/>
            <p:nvPr/>
          </p:nvSpPr>
          <p:spPr>
            <a:xfrm>
              <a:off x="3660840" y="1488960"/>
              <a:ext cx="1755720" cy="123660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3660840" y="1488960"/>
              <a:ext cx="1755720" cy="12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3911760" y="1720800"/>
              <a:ext cx="1238400" cy="88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004fec"/>
                  </a:solidFill>
                  <a:latin typeface="Arial"/>
                  <a:ea typeface="Arial"/>
                </a:rPr>
                <a:t>Tru64</a:t>
              </a:r>
              <a:br>
                <a:rPr sz="2600"/>
              </a:br>
              <a:r>
                <a:rPr b="1" lang="en-US" sz="2600" spc="-1" strike="noStrike">
                  <a:solidFill>
                    <a:srgbClr val="004fec"/>
                  </a:solidFill>
                  <a:latin typeface="Arial"/>
                  <a:ea typeface="Arial"/>
                </a:rPr>
                <a:t>Serve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 txBox="1"/>
          <p:nvPr/>
        </p:nvSpPr>
        <p:spPr>
          <a:xfrm>
            <a:off x="3867120" y="3273480"/>
            <a:ext cx="1341360" cy="6681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d2d2d2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978280" y="3857760"/>
            <a:ext cx="9460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86000" y="3857760"/>
            <a:ext cx="49212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818320" y="3857760"/>
            <a:ext cx="11872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Stan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749920" y="4795920"/>
            <a:ext cx="297504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Symbol"/>
              <a:buChar char=""/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Dual Redund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Symbol"/>
              <a:buChar char=" "/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Controller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Transparent Fail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840040" y="4286160"/>
            <a:ext cx="118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Stan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888160" y="4286160"/>
            <a:ext cx="9460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286000" y="4286160"/>
            <a:ext cx="49212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264280" y="3857760"/>
            <a:ext cx="49212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087800" y="4214880"/>
            <a:ext cx="83016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  <a:ea typeface="Arial"/>
              </a:rPr>
              <a:t>50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600200" y="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lang="en-US" sz="3600" spc="-1" strike="noStrike">
                <a:solidFill>
                  <a:srgbClr val="ff8f2b"/>
                </a:solidFill>
                <a:latin typeface="Times New Roman"/>
                <a:ea typeface="Times New Roman"/>
              </a:rPr>
              <a:t>Tru64 Unix Configuration FC-Switch</a:t>
            </a:r>
            <a:r>
              <a:rPr b="1" lang="en-US" sz="3900" spc="-1" strike="noStrike">
                <a:solidFill>
                  <a:srgbClr val="ff8f2b"/>
                </a:solidFill>
                <a:latin typeface="Arial"/>
                <a:ea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1a4ff"/>
              </a:gs>
              <a:gs pos="100000">
                <a:srgbClr val="00517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49920" y="3862440"/>
            <a:ext cx="0" cy="1138320"/>
          </a:xfrm>
          <a:prstGeom prst="line">
            <a:avLst/>
          </a:prstGeom>
          <a:ln w="38160">
            <a:solidFill>
              <a:srgbClr val="fb6b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56200" y="3790800"/>
            <a:ext cx="0" cy="1281240"/>
          </a:xfrm>
          <a:prstGeom prst="line">
            <a:avLst/>
          </a:prstGeom>
          <a:ln w="38160">
            <a:solidFill>
              <a:srgbClr val="fb6b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363920" y="3860640"/>
            <a:ext cx="0" cy="1138320"/>
          </a:xfrm>
          <a:prstGeom prst="line">
            <a:avLst/>
          </a:prstGeom>
          <a:ln w="381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37000" y="2647800"/>
            <a:ext cx="689040" cy="709920"/>
          </a:xfrm>
          <a:prstGeom prst="line">
            <a:avLst/>
          </a:prstGeom>
          <a:ln w="381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600200" y="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lang="en-US" sz="3600" spc="-1" strike="noStrike">
                <a:solidFill>
                  <a:srgbClr val="ff8f2b"/>
                </a:solidFill>
                <a:latin typeface="Times New Roman"/>
                <a:ea typeface="Times New Roman"/>
              </a:rPr>
              <a:t>Tru64 Unix Configuration FC-Switch</a:t>
            </a:r>
            <a:r>
              <a:rPr b="1" lang="en-US" sz="3900" spc="-1" strike="noStrike">
                <a:solidFill>
                  <a:srgbClr val="ff8f2b"/>
                </a:solidFill>
                <a:latin typeface="Arial"/>
                <a:ea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828800" y="685800"/>
            <a:ext cx="522288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  <a:ea typeface="Times New Roman"/>
              </a:rPr>
              <a:t>Multiple Servers / Dual Controllers</a:t>
            </a:r>
            <a:r>
              <a:rPr b="1" lang="en-US" sz="2900" spc="-1" strike="noStrike">
                <a:solidFill>
                  <a:srgbClr val="ff8f2b"/>
                </a:solidFill>
                <a:latin typeface="Arial"/>
                <a:ea typeface="Arial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562720" y="1857240"/>
            <a:ext cx="10666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  <a:ea typeface="Arial"/>
              </a:rPr>
              <a:t>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41840" y="3933720"/>
            <a:ext cx="0" cy="1067040"/>
          </a:xfrm>
          <a:prstGeom prst="line">
            <a:avLst/>
          </a:prstGeom>
          <a:ln w="381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52760" y="4989600"/>
            <a:ext cx="2030400" cy="14112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452760" y="4989600"/>
            <a:ext cx="2030400" cy="14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HSG80 FC Dual Control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4495680"/>
            <a:ext cx="3138480" cy="16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Up to 16 LUNs/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Up to 8 Servers/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Up to 72 D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Up to 500 meters p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Symbol"/>
              <a:buChar char=" "/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segment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156200" y="2786040"/>
            <a:ext cx="83196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  <a:ea typeface="Arial"/>
              </a:rPr>
              <a:t>50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264280" y="4286160"/>
            <a:ext cx="49212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906800" y="1417680"/>
            <a:ext cx="1728720" cy="1236600"/>
            <a:chOff x="4906800" y="1417680"/>
            <a:chExt cx="1728720" cy="1236600"/>
          </a:xfrm>
        </p:grpSpPr>
        <p:sp>
          <p:nvSpPr>
            <p:cNvPr id="217" name=""/>
            <p:cNvSpPr/>
            <p:nvPr/>
          </p:nvSpPr>
          <p:spPr>
            <a:xfrm>
              <a:off x="4906800" y="1417680"/>
              <a:ext cx="1728720" cy="123660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4906800" y="1417680"/>
              <a:ext cx="1728720" cy="12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5154480" y="1649520"/>
              <a:ext cx="1219320" cy="88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004fec"/>
                  </a:solidFill>
                  <a:latin typeface="Arial"/>
                  <a:ea typeface="Arial"/>
                </a:rPr>
                <a:t>Tru64</a:t>
              </a:r>
              <a:br>
                <a:rPr sz="2600"/>
              </a:br>
              <a:r>
                <a:rPr b="1" lang="en-US" sz="2600" spc="-1" strike="noStrike">
                  <a:solidFill>
                    <a:srgbClr val="004fec"/>
                  </a:solidFill>
                  <a:latin typeface="Arial"/>
                  <a:ea typeface="Arial"/>
                </a:rPr>
                <a:t>Serve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 txBox="1"/>
          <p:nvPr/>
        </p:nvSpPr>
        <p:spPr>
          <a:xfrm>
            <a:off x="3867120" y="3273480"/>
            <a:ext cx="1341360" cy="6681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d2d2d2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978280" y="3857760"/>
            <a:ext cx="9460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286000" y="3857760"/>
            <a:ext cx="49212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818320" y="3857760"/>
            <a:ext cx="11872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Stan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943600" y="4724280"/>
            <a:ext cx="297504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Symbol"/>
              <a:buChar char=""/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Dual Redund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Controller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Transparent Fail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087800" y="4143240"/>
            <a:ext cx="83016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  <a:ea typeface="Arial"/>
              </a:rPr>
              <a:t>50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819520" y="4191120"/>
            <a:ext cx="1187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Stan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888160" y="4286160"/>
            <a:ext cx="9460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0" y="4191120"/>
            <a:ext cx="495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264280" y="3857760"/>
            <a:ext cx="49212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620800" y="1417680"/>
            <a:ext cx="1728720" cy="1236600"/>
            <a:chOff x="2620800" y="1417680"/>
            <a:chExt cx="1728720" cy="1236600"/>
          </a:xfrm>
        </p:grpSpPr>
        <p:sp>
          <p:nvSpPr>
            <p:cNvPr id="231" name=""/>
            <p:cNvSpPr/>
            <p:nvPr/>
          </p:nvSpPr>
          <p:spPr>
            <a:xfrm>
              <a:off x="2620800" y="1417680"/>
              <a:ext cx="1728720" cy="123660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2620800" y="1417680"/>
              <a:ext cx="1728720" cy="12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>
              <a:off x="2868480" y="1649520"/>
              <a:ext cx="1219320" cy="88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004fec"/>
                  </a:solidFill>
                  <a:latin typeface="Arial"/>
                  <a:ea typeface="Arial"/>
                </a:rPr>
                <a:t>Tru64</a:t>
              </a:r>
              <a:br>
                <a:rPr sz="2600"/>
              </a:br>
              <a:r>
                <a:rPr b="1" lang="en-US" sz="2600" spc="-1" strike="noStrike">
                  <a:solidFill>
                    <a:srgbClr val="004fec"/>
                  </a:solidFill>
                  <a:latin typeface="Arial"/>
                  <a:ea typeface="Arial"/>
                </a:rPr>
                <a:t>Serve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04640" y="1417680"/>
            <a:ext cx="1735200" cy="1236600"/>
            <a:chOff x="404640" y="1417680"/>
            <a:chExt cx="1735200" cy="1236600"/>
          </a:xfrm>
        </p:grpSpPr>
        <p:sp>
          <p:nvSpPr>
            <p:cNvPr id="235" name=""/>
            <p:cNvSpPr/>
            <p:nvPr/>
          </p:nvSpPr>
          <p:spPr>
            <a:xfrm>
              <a:off x="404640" y="1417680"/>
              <a:ext cx="1735200" cy="123660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404640" y="1417680"/>
              <a:ext cx="1735200" cy="12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652320" y="1649520"/>
              <a:ext cx="1224000" cy="88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004fec"/>
                  </a:solidFill>
                  <a:latin typeface="Arial"/>
                  <a:ea typeface="Arial"/>
                </a:rPr>
                <a:t>Tru64</a:t>
              </a:r>
              <a:br>
                <a:rPr sz="2600"/>
              </a:br>
              <a:r>
                <a:rPr b="1" lang="en-US" sz="2600" spc="-1" strike="noStrike">
                  <a:solidFill>
                    <a:srgbClr val="004fec"/>
                  </a:solidFill>
                  <a:latin typeface="Arial"/>
                  <a:ea typeface="Arial"/>
                </a:rPr>
                <a:t>Serve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192800" y="1417680"/>
            <a:ext cx="1728720" cy="1236600"/>
            <a:chOff x="7192800" y="1417680"/>
            <a:chExt cx="1728720" cy="1236600"/>
          </a:xfrm>
        </p:grpSpPr>
        <p:sp>
          <p:nvSpPr>
            <p:cNvPr id="239" name=""/>
            <p:cNvSpPr/>
            <p:nvPr/>
          </p:nvSpPr>
          <p:spPr>
            <a:xfrm>
              <a:off x="7192800" y="1417680"/>
              <a:ext cx="1728720" cy="123660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7192800" y="1417680"/>
              <a:ext cx="1728720" cy="12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7440480" y="1649520"/>
              <a:ext cx="1219320" cy="88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004fec"/>
                  </a:solidFill>
                  <a:latin typeface="Arial"/>
                  <a:ea typeface="Arial"/>
                </a:rPr>
                <a:t>Tru64</a:t>
              </a:r>
              <a:br>
                <a:rPr sz="2600"/>
              </a:br>
              <a:r>
                <a:rPr b="1" lang="en-US" sz="2600" spc="-1" strike="noStrike">
                  <a:solidFill>
                    <a:srgbClr val="004fec"/>
                  </a:solidFill>
                  <a:latin typeface="Arial"/>
                  <a:ea typeface="Arial"/>
                </a:rPr>
                <a:t>Serve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 flipH="1">
            <a:off x="4923000" y="2647800"/>
            <a:ext cx="826920" cy="709920"/>
          </a:xfrm>
          <a:prstGeom prst="line">
            <a:avLst/>
          </a:prstGeom>
          <a:ln w="381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5200560" y="2647800"/>
            <a:ext cx="2835360" cy="924120"/>
          </a:xfrm>
          <a:prstGeom prst="line">
            <a:avLst/>
          </a:prstGeom>
          <a:ln w="381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90680" y="2647800"/>
            <a:ext cx="2489040" cy="924120"/>
          </a:xfrm>
          <a:prstGeom prst="line">
            <a:avLst/>
          </a:prstGeom>
          <a:ln w="381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1a4ff"/>
              </a:gs>
              <a:gs pos="100000">
                <a:srgbClr val="00517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88160" y="3576600"/>
            <a:ext cx="0" cy="1995480"/>
          </a:xfrm>
          <a:prstGeom prst="line">
            <a:avLst/>
          </a:prstGeom>
          <a:ln w="38160">
            <a:solidFill>
              <a:srgbClr val="fb6b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55840" y="3648240"/>
            <a:ext cx="0" cy="1923840"/>
          </a:xfrm>
          <a:prstGeom prst="line">
            <a:avLst/>
          </a:prstGeom>
          <a:ln w="38160">
            <a:solidFill>
              <a:srgbClr val="fb6b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091040" y="2290680"/>
            <a:ext cx="1727280" cy="781200"/>
          </a:xfrm>
          <a:prstGeom prst="line">
            <a:avLst/>
          </a:prstGeom>
          <a:ln w="381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600200" y="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lang="en-US" sz="3600" spc="-1" strike="noStrike">
                <a:solidFill>
                  <a:srgbClr val="ff8f2b"/>
                </a:solidFill>
                <a:latin typeface="Times New Roman"/>
                <a:ea typeface="Times New Roman"/>
              </a:rPr>
              <a:t>Tru64 Unix Configuration FC-Switch</a:t>
            </a:r>
            <a:r>
              <a:rPr b="1" lang="en-US" sz="3900" spc="-1" strike="noStrike">
                <a:solidFill>
                  <a:srgbClr val="ff8f2b"/>
                </a:solidFill>
                <a:latin typeface="Arial"/>
                <a:ea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828800" y="685800"/>
            <a:ext cx="70102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  <a:ea typeface="Times New Roman"/>
              </a:rPr>
              <a:t>Dual Servers / Dual Controllers / TruClus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562720" y="1857240"/>
            <a:ext cx="10666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  <a:ea typeface="Arial"/>
              </a:rPr>
              <a:t>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63920" y="3648240"/>
            <a:ext cx="0" cy="1352520"/>
          </a:xfrm>
          <a:prstGeom prst="line">
            <a:avLst/>
          </a:prstGeom>
          <a:ln w="381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52760" y="4989600"/>
            <a:ext cx="2030400" cy="12366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452760" y="4989600"/>
            <a:ext cx="2030400" cy="12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HSG80 FC Dual Control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52280" y="4648320"/>
            <a:ext cx="298620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Up to 16 LUNs/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Up to 72 D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Symbol"/>
              <a:buChar char=""/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Up to 500 meters</a:t>
            </a:r>
            <a:br>
              <a:rPr sz="2000"/>
            </a:b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  per segment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286000" y="4214880"/>
            <a:ext cx="83196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  <a:ea typeface="Arial"/>
              </a:rPr>
              <a:t>50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463920" y="4357800"/>
            <a:ext cx="49212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517760" y="1488960"/>
            <a:ext cx="1870200" cy="1236600"/>
            <a:chOff x="1517760" y="1488960"/>
            <a:chExt cx="1870200" cy="1236600"/>
          </a:xfrm>
        </p:grpSpPr>
        <p:sp>
          <p:nvSpPr>
            <p:cNvPr id="259" name=""/>
            <p:cNvSpPr/>
            <p:nvPr/>
          </p:nvSpPr>
          <p:spPr>
            <a:xfrm>
              <a:off x="1517760" y="1488960"/>
              <a:ext cx="1870200" cy="123660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1517760" y="1488960"/>
              <a:ext cx="1870200" cy="12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1784520" y="1720800"/>
              <a:ext cx="1319040" cy="88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004fec"/>
                  </a:solidFill>
                  <a:latin typeface="Arial"/>
                  <a:ea typeface="Arial"/>
                </a:rPr>
                <a:t>Tru64</a:t>
              </a:r>
              <a:br>
                <a:rPr sz="2600"/>
              </a:br>
              <a:r>
                <a:rPr b="1" lang="en-US" sz="2600" spc="-1" strike="noStrike">
                  <a:solidFill>
                    <a:srgbClr val="004fec"/>
                  </a:solidFill>
                  <a:latin typeface="Arial"/>
                  <a:ea typeface="Arial"/>
                </a:rPr>
                <a:t>Serve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 txBox="1"/>
          <p:nvPr/>
        </p:nvSpPr>
        <p:spPr>
          <a:xfrm>
            <a:off x="2965320" y="2987640"/>
            <a:ext cx="1341360" cy="6681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d2d2d2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02160" y="3714840"/>
            <a:ext cx="9460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087800" y="3714840"/>
            <a:ext cx="49212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373800" y="3714840"/>
            <a:ext cx="11858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Stan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095880" y="4724280"/>
            <a:ext cx="29052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Symbol"/>
              <a:buChar char=""/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Dual Redund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Control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Transparent Fail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442200" y="2857680"/>
            <a:ext cx="83196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  <a:ea typeface="Arial"/>
              </a:rPr>
              <a:t>50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008080" y="3643200"/>
            <a:ext cx="11872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Stan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79720" y="4357800"/>
            <a:ext cx="9446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593720" y="3643200"/>
            <a:ext cx="49212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958000" y="3714840"/>
            <a:ext cx="49212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808600" y="1488960"/>
            <a:ext cx="1817640" cy="1236600"/>
            <a:chOff x="5808600" y="1488960"/>
            <a:chExt cx="1817640" cy="1236600"/>
          </a:xfrm>
        </p:grpSpPr>
        <p:sp>
          <p:nvSpPr>
            <p:cNvPr id="273" name=""/>
            <p:cNvSpPr/>
            <p:nvPr/>
          </p:nvSpPr>
          <p:spPr>
            <a:xfrm>
              <a:off x="5808600" y="1488960"/>
              <a:ext cx="1817640" cy="123660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5808600" y="1488960"/>
              <a:ext cx="1817640" cy="12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6068880" y="1720800"/>
              <a:ext cx="1281240" cy="88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004fec"/>
                  </a:solidFill>
                  <a:latin typeface="Arial"/>
                  <a:ea typeface="Arial"/>
                </a:rPr>
                <a:t>Tru64</a:t>
              </a:r>
              <a:br>
                <a:rPr sz="2600"/>
              </a:br>
              <a:r>
                <a:rPr b="1" lang="en-US" sz="2600" spc="-1" strike="noStrike">
                  <a:solidFill>
                    <a:srgbClr val="004fec"/>
                  </a:solidFill>
                  <a:latin typeface="Arial"/>
                  <a:ea typeface="Arial"/>
                </a:rPr>
                <a:t>Serve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844720" y="2719440"/>
            <a:ext cx="273240" cy="423720"/>
          </a:xfrm>
          <a:prstGeom prst="line">
            <a:avLst/>
          </a:prstGeom>
          <a:ln w="381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3398760" y="2000160"/>
            <a:ext cx="2419560" cy="0"/>
          </a:xfrm>
          <a:prstGeom prst="line">
            <a:avLst/>
          </a:prstGeom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767120" y="2987640"/>
            <a:ext cx="1341360" cy="6681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d2d2d2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463920" y="1428840"/>
            <a:ext cx="2286000" cy="5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8cf4ea"/>
                </a:solidFill>
                <a:latin typeface="Arial"/>
                <a:ea typeface="Arial"/>
              </a:rPr>
              <a:t>NIC or Memory Channel Conne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477040" y="5572080"/>
            <a:ext cx="411120" cy="0"/>
          </a:xfrm>
          <a:prstGeom prst="line">
            <a:avLst/>
          </a:prstGeom>
          <a:ln w="38160">
            <a:solidFill>
              <a:srgbClr val="fb6b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3397320" y="2217600"/>
            <a:ext cx="1589040" cy="852480"/>
          </a:xfrm>
          <a:prstGeom prst="line">
            <a:avLst/>
          </a:prstGeom>
          <a:ln w="381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6031080" y="2719440"/>
            <a:ext cx="342720" cy="423720"/>
          </a:xfrm>
          <a:prstGeom prst="line">
            <a:avLst/>
          </a:prstGeom>
          <a:ln w="381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60880" y="5572080"/>
            <a:ext cx="203040" cy="0"/>
          </a:xfrm>
          <a:prstGeom prst="line">
            <a:avLst/>
          </a:prstGeom>
          <a:ln w="38160">
            <a:solidFill>
              <a:srgbClr val="fb6b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72000" y="3648240"/>
            <a:ext cx="0" cy="1352520"/>
          </a:xfrm>
          <a:prstGeom prst="line">
            <a:avLst/>
          </a:prstGeom>
          <a:ln w="381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5867280" y="5972040"/>
            <a:ext cx="2997360" cy="5014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3251160" y="3124080"/>
            <a:ext cx="271764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ule Ibraheem</dc:creator>
  <dc:description/>
  <dc:language>en-US</dc:language>
  <cp:lastModifiedBy>Sule Ibraheem</cp:lastModifiedBy>
  <cp:revision>0</cp:revision>
  <dc:subject/>
  <dc:title>Tru64 Unix Configuration Examples</dc:title>
</cp:coreProperties>
</file>